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9.png" ContentType="image/png"/>
  <Override PartName="/ppt/media/image17.wmf" ContentType="image/x-wmf"/>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10.wmf" ContentType="image/x-wmf"/>
  <Override PartName="/ppt/media/image2.png" ContentType="image/png"/>
  <Override PartName="/ppt/media/image25.png" ContentType="image/png"/>
  <Override PartName="/ppt/media/image6.png" ContentType="image/png"/>
  <Override PartName="/ppt/media/image5.png" ContentType="image/png"/>
  <Override PartName="/ppt/media/image27.wmf" ContentType="image/x-wmf"/>
  <Override PartName="/ppt/media/image16.png" ContentType="image/png"/>
  <Override PartName="/ppt/media/image23.jpeg" ContentType="image/jpeg"/>
  <Override PartName="/ppt/media/image22.wmf" ContentType="image/x-wmf"/>
  <Override PartName="/ppt/media/image21.png" ContentType="image/png"/>
  <Override PartName="/ppt/media/image20.png" ContentType="image/png"/>
  <Override PartName="/ppt/media/image19.wmf" ContentType="image/x-wmf"/>
  <Override PartName="/ppt/media/image18.wmf" ContentType="image/x-wmf"/>
  <Override PartName="/ppt/media/image15.png" ContentType="image/png"/>
  <Override PartName="/ppt/media/image14.png" ContentType="image/png"/>
  <Override PartName="/ppt/media/image3.png" ContentType="image/png"/>
  <Override PartName="/ppt/media/image26.png" ContentType="image/png"/>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94800"/>
            <a:ext cx="4571640" cy="342864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7"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4440" y="684360"/>
            <a:ext cx="4572000" cy="3429000"/>
          </a:xfrm>
          <a:prstGeom prst="rect">
            <a:avLst/>
          </a:prstGeom>
          <a:ln w="0">
            <a:noFill/>
          </a:ln>
        </p:spPr>
      </p:sp>
      <p:sp>
        <p:nvSpPr>
          <p:cNvPr id="608"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576D2-566A-4206-A0F8-BE121DA10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072A-AAB2-4B08-945F-BDBABA43F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5A3C8-FA57-422F-927F-C06412A22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E86D2-89B0-4473-A6E9-F3AB51EEE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78E18-1230-448F-A0B6-9C86393CE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26677-FB1B-4AD8-8B31-EEBE6E489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1F9B7-F69A-4780-BE21-310AD85C8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81FE9-E725-46A7-A47B-7EB44E95F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84B7-2A79-4DA9-A7D8-44F4AC044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E0B6E-93F1-4C48-B8FC-90F447053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BCBE6-BB67-4440-B21A-44B215EF7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B2C90-CC88-4F02-A6D9-7F5E58D2C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2.xm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731C-6F47-4105-BF16-2F4A8DB5BD8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9"/>
          <p:cNvGrpSpPr/>
          <p:nvPr/>
        </p:nvGrpSpPr>
        <p:grpSpPr>
          <a:xfrm>
            <a:off x="0" y="0"/>
            <a:ext cx="9144000" cy="6858000"/>
            <a:chOff x="0" y="0"/>
            <a:chExt cx="9144000" cy="6858000"/>
          </a:xfrm>
        </p:grpSpPr>
        <p:sp>
          <p:nvSpPr>
            <p:cNvPr id="47"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1B16-5EB5-4D5C-B2EC-F22FE3E1737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eptember 2011</a:t>
            </a:r>
            <a:endParaRPr b="0" lang="en-US" sz="1200" spc="-1" strike="noStrike">
              <a:solidFill>
                <a:srgbClr val="000000"/>
              </a:solidFill>
              <a:latin typeface="Arial"/>
            </a:endParaRPr>
          </a:p>
        </p:txBody>
      </p:sp>
      <p:sp>
        <p:nvSpPr>
          <p:cNvPr id="5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5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E3A4-D2DF-4714-B639-E7FD009FB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mailto:benjamin.romano@rechargenews.com?cc=editorial@rechargenews.com&amp;subject=Comment%20on%20online%20article&amp;body=http://www.rechargenews.com/energy/wind/article311174.ece" TargetMode="External"/><Relationship Id="rId2" Type="http://schemas.openxmlformats.org/officeDocument/2006/relationships/hyperlink" Target="mailto:benjamin.romano@rechargenews.com?cc=editorial@rechargenews.com&amp;subject=Comment%20on%20online%20article&amp;body=http://www.rechargenews.com/energy/wind/article311174.ece" TargetMode="Externa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of Renewable Resources</a:t>
            </a:r>
            <a:endParaRPr b="1" lang="en-US" sz="20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437" name="PlaceHolder 2"/>
          <p:cNvSpPr>
            <a:spLocks noGrp="1"/>
          </p:cNvSpPr>
          <p:nvPr>
            <p:ph/>
          </p:nvPr>
        </p:nvSpPr>
        <p:spPr>
          <a:xfrm>
            <a:off x="685440" y="1371600"/>
            <a:ext cx="762012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withstanding this, the exercises and lecturers are intended to provide:</a:t>
            </a:r>
            <a:endParaRPr b="0" lang="en-US" sz="16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head start for those who have not created models and will have to learn the hard way.  </a:t>
            </a:r>
            <a:endParaRPr b="0" lang="en-US" sz="1400" spc="-1" strike="noStrike">
              <a:solidFill>
                <a:srgbClr val="000000"/>
              </a:solidFill>
              <a:latin typeface="Arial"/>
            </a:endParaRPr>
          </a:p>
          <a:p>
            <a:pPr lvl="1" marL="673200" indent="-208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ful ideas to experienced model builders in designing and structuring more efficient, stable, transparent and accurate models.  </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4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4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Greenspan, Financial Times.  </a:t>
            </a:r>
            <a:endParaRPr b="0" lang="en-US" sz="16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cholas Taleb:</a:t>
            </a:r>
            <a:endParaRPr b="0" lang="en-US" sz="16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 Example</a:t>
            </a:r>
            <a:endParaRPr b="1" lang="en-US" sz="2000" spc="-1" strike="noStrike">
              <a:solidFill>
                <a:srgbClr val="000000"/>
              </a:solidFill>
              <a:latin typeface="Arial"/>
            </a:endParaRPr>
          </a:p>
        </p:txBody>
      </p:sp>
      <p:sp>
        <p:nvSpPr>
          <p:cNvPr id="4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istribution conditions includ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no event of default,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 full debt service fun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ull reserves (debt service, major maintenance, and O&amp;M), an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ebt service coverage ratios (DSCR) of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t least 1.3 looking backward an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orward 12 month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fact that the debt service fund is fully funded to make the next debt payment allows Standard &amp; Poor's to accept biannual distributions with an annual debt payment. </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Objectives of Model Analysis</a:t>
            </a:r>
            <a:endParaRPr b="1" lang="en-US" sz="2000" spc="-1" strike="noStrike">
              <a:solidFill>
                <a:srgbClr val="000000"/>
              </a:solidFill>
              <a:latin typeface="Arial"/>
            </a:endParaRPr>
          </a:p>
        </p:txBody>
      </p:sp>
      <p:sp>
        <p:nvSpPr>
          <p:cNvPr id="4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creen projects and value projects</a:t>
            </a:r>
            <a:endParaRPr b="0" lang="en-US" sz="2400" spc="-1" strike="noStrike">
              <a:solidFill>
                <a:srgbClr val="000000"/>
              </a:solidFill>
              <a:latin typeface="Arial"/>
            </a:endParaRPr>
          </a:p>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tructure the financing of projects</a:t>
            </a:r>
            <a:endParaRPr b="0" lang="en-US" sz="2400" spc="-1" strike="noStrike">
              <a:solidFill>
                <a:srgbClr val="000000"/>
              </a:solidFill>
              <a:latin typeface="Arial"/>
            </a:endParaRPr>
          </a:p>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nalyze risk using models</a:t>
            </a:r>
            <a:endParaRPr b="0" lang="en-US" sz="2400" spc="-1" strike="noStrike">
              <a:solidFill>
                <a:srgbClr val="000000"/>
              </a:solidFill>
              <a:latin typeface="Arial"/>
            </a:endParaRPr>
          </a:p>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develop detailed financing provisions</a:t>
            </a:r>
            <a:endParaRPr b="0" lang="en-US" sz="2400" spc="-1" strike="noStrike">
              <a:solidFill>
                <a:srgbClr val="000000"/>
              </a:solidFill>
              <a:latin typeface="Arial"/>
            </a:endParaRPr>
          </a:p>
          <a:p>
            <a:pPr lvl="1" marL="855720" indent="-28908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base of information on the project</a:t>
            </a:r>
            <a:endParaRPr b="0" lang="en-US" sz="24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4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19960" indent="-21996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1996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4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Comments about financial mode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nderstanding</a:t>
            </a:r>
            <a:r>
              <a:rPr b="0" lang="en-GB" sz="1800" spc="-1" strike="noStrike">
                <a:solidFill>
                  <a:srgbClr val="000000"/>
                </a:solidFill>
                <a:latin typeface="Arial"/>
              </a:rPr>
              <a:t> a transaction and writing language for project finance contracts (construction contract, loan agreement, concession agreement, purchase power agreement) </a:t>
            </a:r>
            <a:r>
              <a:rPr b="1" i="1" lang="en-GB" sz="1800" spc="-1" strike="noStrike">
                <a:solidFill>
                  <a:srgbClr val="0000ff"/>
                </a:solidFill>
                <a:latin typeface="Arial"/>
              </a:rPr>
              <a:t>cash flow is the ultimate issue</a:t>
            </a:r>
            <a:r>
              <a:rPr b="0" lang="en-GB" sz="1800" spc="-1" strike="noStrike">
                <a:solidFill>
                  <a:srgbClr val="000000"/>
                </a:solidFill>
                <a:latin typeface="Arial"/>
              </a:rPr>
              <a:t>.  One must understand how much cash flow is generated, who gets the cash flow and the priorities each party has to the cash flow.</a:t>
            </a:r>
            <a:endParaRPr b="0" lang="en-US" sz="18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Perspective on Renewable Investments</a:t>
            </a:r>
            <a:endParaRPr b="1" lang="en-US" sz="2000" spc="-1" strike="noStrike">
              <a:solidFill>
                <a:srgbClr val="000000"/>
              </a:solidFill>
              <a:latin typeface="Arial"/>
            </a:endParaRPr>
          </a:p>
        </p:txBody>
      </p:sp>
      <p:sp>
        <p:nvSpPr>
          <p:cNvPr id="45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from Financial Crisis on Risk Assess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Structur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and return requiremen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risks of capital investment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tensity of Renewabl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isks are Most Importan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 required by private investors in wind farm investmen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for bankers in wind farm investments in order to accept risk</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45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2293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29320" indent="-2293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66360" indent="-20592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57560" indent="-2260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57560" indent="-2260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57560" indent="-2260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66360" indent="-20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57560" indent="-22608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in Project Finance for Renewable Projects</a:t>
            </a:r>
            <a:endParaRPr b="1" lang="en-US" sz="2000" spc="-1" strike="noStrike">
              <a:solidFill>
                <a:srgbClr val="000000"/>
              </a:solidFill>
              <a:latin typeface="Arial"/>
            </a:endParaRPr>
          </a:p>
        </p:txBody>
      </p:sp>
      <p:sp>
        <p:nvSpPr>
          <p:cNvPr id="45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ssues that must generally be addressed in valuation, financial structuring and credit analysis includ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45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227160" indent="-1695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838440" indent="-2829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227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4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finance model should correspond to the fundamentals of projec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4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464"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466"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467"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469"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471"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472"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473"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 Balance, Debt 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474"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475"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476"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477"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479"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0"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1"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2"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483"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4"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5"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6"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7"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8"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9"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491"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492"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493"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494"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495"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496"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497"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498"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9"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0"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1"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2"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3"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4"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5"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5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8" name="Picture 4" descr=""/>
          <p:cNvPicPr/>
          <p:nvPr/>
        </p:nvPicPr>
        <p:blipFill>
          <a:blip r:embed="rId1"/>
          <a:stretch/>
        </p:blipFill>
        <p:spPr>
          <a:xfrm>
            <a:off x="685800" y="1600200"/>
            <a:ext cx="7910640" cy="4361040"/>
          </a:xfrm>
          <a:prstGeom prst="rect">
            <a:avLst/>
          </a:prstGeom>
          <a:ln w="0">
            <a:noFill/>
          </a:ln>
        </p:spPr>
      </p:pic>
      <p:sp>
        <p:nvSpPr>
          <p:cNvPr id="509"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510"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1"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512"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513"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5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Picture 4" descr=""/>
          <p:cNvPicPr/>
          <p:nvPr/>
        </p:nvPicPr>
        <p:blipFill>
          <a:blip r:embed="rId1"/>
          <a:stretch/>
        </p:blipFill>
        <p:spPr>
          <a:xfrm>
            <a:off x="380880" y="1828800"/>
            <a:ext cx="8420400" cy="3767040"/>
          </a:xfrm>
          <a:prstGeom prst="rect">
            <a:avLst/>
          </a:prstGeom>
          <a:ln w="0">
            <a:noFill/>
          </a:ln>
        </p:spPr>
      </p:pic>
      <p:sp>
        <p:nvSpPr>
          <p:cNvPr id="517"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26"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27"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520" name="PlaceHolder 2"/>
          <p:cNvSpPr>
            <a:spLocks noGrp="1"/>
          </p:cNvSpPr>
          <p:nvPr>
            <p:ph/>
          </p:nvPr>
        </p:nvSpPr>
        <p:spPr>
          <a:xfrm>
            <a:off x="609120" y="1371600"/>
            <a:ext cx="7620120" cy="4572000"/>
          </a:xfrm>
          <a:prstGeom prst="rect">
            <a:avLst/>
          </a:prstGeom>
          <a:noFill/>
          <a:ln w="0">
            <a:noFill/>
          </a:ln>
        </p:spPr>
        <p:txBody>
          <a:bodyPr lIns="92160" rIns="92160" tIns="46080" bIns="46080" anchor="t">
            <a:normAutofit fontScale="96000"/>
          </a:bodyPr>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222480" indent="-1659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522"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3"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5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It is good practice to have accounts for all balance sheet item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Some examples includ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526"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nalysis and Time Period Definitions in Models</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533"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2318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5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5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5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Valuation</a:t>
            </a:r>
            <a:endParaRPr b="1" lang="en-US" sz="2000" spc="-1" strike="noStrike">
              <a:solidFill>
                <a:srgbClr val="000000"/>
              </a:solidFill>
              <a:latin typeface="Arial"/>
            </a:endParaRPr>
          </a:p>
        </p:txBody>
      </p:sp>
      <p:sp>
        <p:nvSpPr>
          <p:cNvPr id="1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ers Rather than Analysts Computing Beta Determine Risk and Val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Risk Measureme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oil Risk into Mathematical Form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Matters Very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Distributions do not follow normal distribution</a:t>
            </a: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5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544"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545"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5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5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318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s in Project Finance</a:t>
            </a:r>
            <a:endParaRPr b="1" lang="en-US" sz="20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552"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5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556" name="Object 3"/>
          <p:cNvGraphicFramePr/>
          <p:nvPr/>
        </p:nvGraphicFramePr>
        <p:xfrm>
          <a:off x="1752480" y="1981080"/>
          <a:ext cx="5105520" cy="4208760"/>
        </p:xfrm>
        <a:graphic>
          <a:graphicData uri="http://schemas.openxmlformats.org/presentationml/2006/ole">
            <p:oleObj progId="Excel.Sheet.12" r:id="rId1" spid="">
              <p:embed/>
              <p:pic>
                <p:nvPicPr>
                  <p:cNvPr id="557"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558"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560"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5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Shore and Effect of Risk on Cost of Capital</a:t>
            </a:r>
            <a:endParaRPr b="1" lang="en-US" sz="2000" spc="-1" strike="noStrike">
              <a:solidFill>
                <a:srgbClr val="000000"/>
              </a:solidFill>
              <a:latin typeface="Arial"/>
            </a:endParaRPr>
          </a:p>
        </p:txBody>
      </p:sp>
      <p:sp>
        <p:nvSpPr>
          <p:cNvPr id="1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Technical Risks Relative to On Sho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s are higher and there is more risk of construction cost over-run potential and high connection costs. Also, the lead time is long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s are also higher, as the marine environment is tougher on parts, and access is similarly more difficult: even minor repairs will require the intervention of a boat and will take more tim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s are also more uncertain: there is little track record for offshore operations, and risks are not completely understood, such the long term impact of corrosive salt, and stronger winds, on turbines initially designed for onshore us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d weather can prevent access to the farm altogether and mean that even minor technical problems can cost big production losses as repairs are delayed; </a:t>
            </a:r>
            <a:endParaRPr b="0" lang="en-US" sz="1600" spc="-1" strike="noStrike">
              <a:solidFill>
                <a:srgbClr val="000000"/>
              </a:solidFill>
              <a:latin typeface="Arial"/>
            </a:endParaRPr>
          </a:p>
          <a:p>
            <a:pPr lvl="1" marL="8557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564"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5"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5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5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5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5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5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5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57560" indent="-226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Debt Service Coverage by Banker</a:t>
            </a:r>
            <a:endParaRPr b="1" lang="en-US" sz="2000" spc="-1" strike="noStrike">
              <a:solidFill>
                <a:srgbClr val="000000"/>
              </a:solidFill>
              <a:latin typeface="Arial"/>
            </a:endParaRPr>
          </a:p>
        </p:txBody>
      </p:sp>
      <p:sp>
        <p:nvSpPr>
          <p:cNvPr id="1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omments illustrate the basis for evaluating debt service coverage by a banker</a:t>
            </a:r>
            <a:endParaRPr b="0" lang="en-US" sz="2400" spc="-1" strike="noStrike">
              <a:solidFill>
                <a:srgbClr val="000000"/>
              </a:solidFill>
              <a:latin typeface="Arial"/>
            </a:endParaRPr>
          </a:p>
          <a:p>
            <a:pPr lvl="1" marL="855720" indent="-289080">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ways have some margin of safety when we decide how much the project should pay us back each year (and thus how much it can borrow) to cover for the statistical wind risk </a:t>
            </a:r>
            <a:endParaRPr b="0" lang="en-US" sz="2000" spc="-1" strike="noStrike">
              <a:solidFill>
                <a:srgbClr val="000000"/>
              </a:solidFill>
              <a:latin typeface="Arial"/>
            </a:endParaRPr>
          </a:p>
          <a:p>
            <a:pPr lvl="1" marL="855720" indent="-289080">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we want revenues after all operating costs and taxes to be about 40% higher than what we actually need to repay the debt. This means that on any given period, revenues can be a third lower for any reason (whether lower wind, poor operating performance, or lower electricity prices) and we will still have enough money to repay debt. </a:t>
            </a:r>
            <a:endParaRPr b="0" lang="en-US" sz="20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 in Credit Analysis</a:t>
            </a:r>
            <a:endParaRPr b="1" lang="en-US" sz="20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5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5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59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59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85572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85572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85572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5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5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6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6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29320" indent="-171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84708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ewable Debt Service Coverage Criteria</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Shore Win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 for Base Case P50</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 for P75 10 year cas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a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risi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 DSCR</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ulpted</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 of less tail</a:t>
            </a:r>
            <a:endParaRPr b="0" lang="en-US" sz="14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 Crisis</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 DSCR</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ulpted</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year tail</a:t>
            </a:r>
            <a:endParaRPr b="0" lang="en-US" sz="14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604"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6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for Off-Shore Wind</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guidelines for off-sho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SCR 1.5 for P5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1.3 for P90 10 yea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sh sweep facilities for cost over-ru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s in Credit Spreads for Renewable Loans</a:t>
            </a:r>
            <a:endParaRPr b="1" lang="en-US" sz="2000" spc="-1" strike="noStrike">
              <a:solidFill>
                <a:srgbClr val="000000"/>
              </a:solidFill>
              <a:latin typeface="Arial"/>
            </a:endParaRPr>
          </a:p>
        </p:txBody>
      </p:sp>
      <p:sp>
        <p:nvSpPr>
          <p:cNvPr id="139"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utumn of 2011, Financial Issues at European Banks Caused Increased Credit Spread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s about 1.5% in 2010</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s more than 3% at the end of 2011</a:t>
            </a:r>
            <a:endParaRPr b="0" lang="en-US" sz="1800" spc="-1" strike="noStrike">
              <a:solidFill>
                <a:srgbClr val="000000"/>
              </a:solidFill>
              <a:latin typeface="Arial"/>
            </a:endParaRPr>
          </a:p>
          <a:p>
            <a:pPr marL="227160" indent="-1695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dex cuts sales forecasts as finance squeeze hits wind</a:t>
            </a:r>
            <a:endParaRPr b="0" lang="en-US" sz="1600" spc="-1" strike="noStrike">
              <a:solidFill>
                <a:srgbClr val="000000"/>
              </a:solidFill>
              <a:latin typeface="Arial"/>
            </a:endParaRPr>
          </a:p>
          <a:p>
            <a:pPr marL="227160" indent="-1695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man wind turbine maker Nordex has cut its 2011 sales forecasts and says tough financing conditions are forcing developers to delay projects.  Nordex is no longer on course to achieve its target of €1bn ($1.36bn) of sales this year. It expects the total to come in around €80m below that figure because of a downturn in the current fourth quarter.   “The sovereign debt crisis in Europe and rising equity requirements imposed on banks have rendered financing of wind farm projects more difficult again,” Nordex told its investors.   “As a result, some international contracts have been postponed with the result that Nordex will no longer be able to execute them to the extent originally planned for the current year.” </a:t>
            </a:r>
            <a:endParaRPr b="0" lang="en-US" sz="1600" spc="-1" strike="noStrike">
              <a:solidFill>
                <a:srgbClr val="000000"/>
              </a:solidFill>
              <a:latin typeface="Arial"/>
            </a:endParaRPr>
          </a:p>
          <a:p>
            <a:pPr marL="227160" indent="-1695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robability Estimates in Debt Sizing and DSCR</a:t>
            </a:r>
            <a:endParaRPr b="1" lang="en-US" sz="2000" spc="-1" strike="noStrike">
              <a:solidFill>
                <a:srgbClr val="000000"/>
              </a:solidFill>
              <a:latin typeface="Arial"/>
            </a:endParaRPr>
          </a:p>
        </p:txBody>
      </p:sp>
      <p:sp>
        <p:nvSpPr>
          <p:cNvPr id="14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er’s models often size debt on the P90 10-year energy case, even if the main ‘base case’ uses the P50 over the long ter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 lower the P90 relative to the P50, the lower the size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lection of either the P50 or P90 may not be critical, as the Debt Service Coverage Ratio changes with each energy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based on P50 with 1.4 DSCR ~ Loan based on P90 (10 year) with 1.2 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Americ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based on P99 (1 Year) with 1.0 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a Few Financial Statistics</a:t>
            </a:r>
            <a:endParaRPr b="1" lang="en-US" sz="2000" spc="-1" strike="noStrike">
              <a:solidFill>
                <a:srgbClr val="000000"/>
              </a:solidFill>
              <a:latin typeface="Arial"/>
            </a:endParaRPr>
          </a:p>
        </p:txBody>
      </p:sp>
      <p:sp>
        <p:nvSpPr>
          <p:cNvPr id="100" name="PlaceHolder 2"/>
          <p:cNvSpPr>
            <a:spLocks noGrp="1"/>
          </p:cNvSpPr>
          <p:nvPr>
            <p:ph/>
          </p:nvPr>
        </p:nvSpPr>
        <p:spPr>
          <a:xfrm>
            <a:off x="762120" y="1143000"/>
            <a:ext cx="7696080" cy="4952880"/>
          </a:xfrm>
          <a:prstGeom prst="rect">
            <a:avLst/>
          </a:prstGeom>
          <a:noFill/>
          <a:ln w="0">
            <a:noFill/>
          </a:ln>
        </p:spPr>
        <p:txBody>
          <a:bodyPr lIns="92160" rIns="92160" tIns="46080" bIns="46080" anchor="t">
            <a:normAutofit fontScale="95000"/>
          </a:bodyPr>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ash Flow (No Financing)</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Cash Flow (Including Financing Effects)</a:t>
            </a:r>
            <a:endParaRPr b="0" lang="en-US" sz="1400" spc="-1" strike="noStrike">
              <a:solidFill>
                <a:srgbClr val="000000"/>
              </a:solidFill>
              <a:latin typeface="Arial"/>
            </a:endParaRPr>
          </a:p>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IRR</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 to the interest rate on debt issues</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in break-even analysis</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nores any debt effect</a:t>
            </a:r>
            <a:endParaRPr b="0" lang="en-US" sz="1400" spc="-1" strike="noStrike">
              <a:solidFill>
                <a:srgbClr val="000000"/>
              </a:solidFill>
              <a:latin typeface="Arial"/>
            </a:endParaRPr>
          </a:p>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uch sponsors put in and how much take out</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by private investors</a:t>
            </a:r>
            <a:endParaRPr b="0" lang="en-US" sz="1400" spc="-1" strike="noStrike">
              <a:solidFill>
                <a:srgbClr val="000000"/>
              </a:solidFill>
              <a:latin typeface="Arial"/>
            </a:endParaRPr>
          </a:p>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resent Value of Free Cash Flow</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to the project IRR</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what it takes to make negative</a:t>
            </a:r>
            <a:endParaRPr b="0" lang="en-US" sz="1400" spc="-1" strike="noStrike">
              <a:solidFill>
                <a:srgbClr val="000000"/>
              </a:solidFill>
              <a:latin typeface="Arial"/>
            </a:endParaRPr>
          </a:p>
          <a:p>
            <a:pPr marL="219960" indent="-164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resent Value of Equity</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to Equity  IRR</a:t>
            </a:r>
            <a:endParaRPr b="0" lang="en-US" sz="1400" spc="-1" strike="noStrike">
              <a:solidFill>
                <a:srgbClr val="000000"/>
              </a:solidFill>
              <a:latin typeface="Arial"/>
            </a:endParaRPr>
          </a:p>
          <a:p>
            <a:pPr lvl="1" marL="812880" indent="-2743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to Investors</a:t>
            </a: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for Hydro with Merchant Plant Risk</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Target: 1.8 or mo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 2%</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or: 1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d Debt Service Coverage Ratio for Renewable Projects</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 bank will base the financial model on the ‘exceedance cases’ provided within the energy assessment for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estimated production of the project (P50) may be used to decide on the size of the loan, or in some cases a value lower than the mean (for example P75 or P90).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pends on the level of additional cash cushioning that is available to cover costs and production variation over and above the money that is needed to make the debt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ervice cover ratio (DSCR) and is the ratio of cash available at the payment date to the debt service costs at that dat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1.4 million is available to make a debt payment (repayment and interest) of €1 million, the DSCR is 1.4:1.</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51" name="Picture 5" descr=""/>
          <p:cNvPicPr/>
          <p:nvPr/>
        </p:nvPicPr>
        <p:blipFill>
          <a:blip r:embed="rId1"/>
          <a:stretch/>
        </p:blipFill>
        <p:spPr>
          <a:xfrm>
            <a:off x="533520" y="2235240"/>
            <a:ext cx="4495680" cy="3073320"/>
          </a:xfrm>
          <a:prstGeom prst="rect">
            <a:avLst/>
          </a:prstGeom>
          <a:ln w="0">
            <a:noFill/>
          </a:ln>
        </p:spPr>
      </p:pic>
      <p:pic>
        <p:nvPicPr>
          <p:cNvPr id="152" name="Picture 6" descr=""/>
          <p:cNvPicPr/>
          <p:nvPr/>
        </p:nvPicPr>
        <p:blipFill>
          <a:blip r:embed="rId2"/>
          <a:stretch/>
        </p:blipFill>
        <p:spPr>
          <a:xfrm>
            <a:off x="4572000" y="2438280"/>
            <a:ext cx="4186080" cy="2862360"/>
          </a:xfrm>
          <a:prstGeom prst="rect">
            <a:avLst/>
          </a:prstGeom>
          <a:ln w="0">
            <a:noFill/>
          </a:ln>
        </p:spPr>
      </p:pic>
      <p:sp>
        <p:nvSpPr>
          <p:cNvPr id="153"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154"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5"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609480" y="2438280"/>
            <a:ext cx="6093000" cy="3382920"/>
          </a:xfrm>
          <a:prstGeom prst="rect">
            <a:avLst/>
          </a:prstGeom>
          <a:ln w="0">
            <a:noFill/>
          </a:ln>
        </p:spPr>
      </p:pic>
      <p:sp>
        <p:nvSpPr>
          <p:cNvPr id="158"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Debt Service Coverage by Banker</a:t>
            </a:r>
            <a:endParaRPr b="1" lang="en-US" sz="2000" spc="-1" strike="noStrike">
              <a:solidFill>
                <a:srgbClr val="000000"/>
              </a:solidFill>
              <a:latin typeface="Arial"/>
            </a:endParaRPr>
          </a:p>
        </p:txBody>
      </p:sp>
      <p:sp>
        <p:nvSpPr>
          <p:cNvPr id="16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omments illustrate the basis for evaluating debt service coverage by a banker</a:t>
            </a:r>
            <a:endParaRPr b="0" lang="en-US" sz="2400" spc="-1" strike="noStrike">
              <a:solidFill>
                <a:srgbClr val="000000"/>
              </a:solidFill>
              <a:latin typeface="Arial"/>
            </a:endParaRPr>
          </a:p>
          <a:p>
            <a:pPr lvl="1" marL="855720" indent="-289080">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ways have some margin of safety when we decide how much the project should pay us back each year (and thus how much it can borrow) to cover for the statistical wind risk </a:t>
            </a:r>
            <a:endParaRPr b="0" lang="en-US" sz="2000" spc="-1" strike="noStrike">
              <a:solidFill>
                <a:srgbClr val="000000"/>
              </a:solidFill>
              <a:latin typeface="Arial"/>
            </a:endParaRPr>
          </a:p>
          <a:p>
            <a:pPr lvl="1" marL="855720" indent="-289080">
              <a:lnSpc>
                <a:spcPct val="9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we want revenues after all operating costs and taxes to be about 40% higher than what we actually need to repay the debt. This means that on any given period, revenues can be a third lower for any reason (whether lower wind, poor operating performance, or lower electricity prices) and we will still have enough money to repay debt. </a:t>
            </a:r>
            <a:endParaRPr b="0"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65" name="Picture 12" descr=""/>
          <p:cNvPicPr/>
          <p:nvPr/>
        </p:nvPicPr>
        <p:blipFill>
          <a:blip r:embed="rId1"/>
          <a:stretch/>
        </p:blipFill>
        <p:spPr>
          <a:xfrm>
            <a:off x="4495680" y="2286000"/>
            <a:ext cx="3267360" cy="3286080"/>
          </a:xfrm>
          <a:prstGeom prst="rect">
            <a:avLst/>
          </a:prstGeom>
          <a:ln w="0">
            <a:noFill/>
          </a:ln>
        </p:spPr>
      </p:pic>
      <p:pic>
        <p:nvPicPr>
          <p:cNvPr id="166" name="Picture 15" descr=""/>
          <p:cNvPicPr/>
          <p:nvPr/>
        </p:nvPicPr>
        <p:blipFill>
          <a:blip r:embed="rId2"/>
          <a:stretch/>
        </p:blipFill>
        <p:spPr>
          <a:xfrm>
            <a:off x="762120" y="2286000"/>
            <a:ext cx="3114720" cy="3286080"/>
          </a:xfrm>
          <a:prstGeom prst="rect">
            <a:avLst/>
          </a:prstGeom>
          <a:ln w="0">
            <a:noFill/>
          </a:ln>
        </p:spPr>
      </p:pic>
      <p:sp>
        <p:nvSpPr>
          <p:cNvPr id="167"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tructuring and Contract Overview</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17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1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102"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03" name="Object 4"/>
          <p:cNvGraphicFramePr/>
          <p:nvPr/>
        </p:nvGraphicFramePr>
        <p:xfrm>
          <a:off x="0" y="1905120"/>
          <a:ext cx="8686800" cy="4440240"/>
        </p:xfrm>
        <a:graphic>
          <a:graphicData uri="http://schemas.openxmlformats.org/presentationml/2006/ole">
            <p:oleObj progId="Word.Document.12" r:id="rId1" spid="">
              <p:embed/>
              <p:pic>
                <p:nvPicPr>
                  <p:cNvPr id="104"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105"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107"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 Financing Structure</a:t>
            </a:r>
            <a:endParaRPr b="1" lang="en-US" sz="2000" spc="-1" strike="noStrike">
              <a:solidFill>
                <a:srgbClr val="000000"/>
              </a:solidFill>
              <a:latin typeface="Arial"/>
            </a:endParaRPr>
          </a:p>
        </p:txBody>
      </p:sp>
      <p:pic>
        <p:nvPicPr>
          <p:cNvPr id="174" name="Content Placeholder 3" descr="Project Financing.bmp"/>
          <p:cNvPicPr/>
          <p:nvPr/>
        </p:nvPicPr>
        <p:blipFill>
          <a:blip r:embed="rId1"/>
          <a:stretch/>
        </p:blipFill>
        <p:spPr>
          <a:xfrm>
            <a:off x="871560" y="1752480"/>
            <a:ext cx="7358040" cy="40910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176"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0"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1"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2"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3"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4"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186"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187"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188"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189"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0"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1"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2"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194"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195"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196"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198"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200"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1"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2"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203"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204"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5"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206"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07"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208"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209"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0"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211"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214"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215"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6"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7"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18"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219"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221"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2"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4"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225"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6"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7"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228"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9"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230"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1"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233"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5"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6"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7"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9"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0"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241"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242"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45"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50" name="Picture 4" descr=""/>
          <p:cNvPicPr/>
          <p:nvPr/>
        </p:nvPicPr>
        <p:blipFill>
          <a:blip r:embed="rId1"/>
          <a:stretch/>
        </p:blipFill>
        <p:spPr>
          <a:xfrm>
            <a:off x="914400" y="1447920"/>
            <a:ext cx="6324480" cy="4878360"/>
          </a:xfrm>
          <a:prstGeom prst="rect">
            <a:avLst/>
          </a:prstGeom>
          <a:ln w="0">
            <a:noFill/>
          </a:ln>
        </p:spPr>
      </p:pic>
      <p:sp>
        <p:nvSpPr>
          <p:cNvPr id="251"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252"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253"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25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Guarantee, Completion Support and Limited Recourse</a:t>
            </a:r>
            <a:endParaRPr b="1" lang="en-US" sz="2000" spc="-1" strike="noStrike">
              <a:solidFill>
                <a:srgbClr val="000000"/>
              </a:solidFill>
              <a:latin typeface="Arial"/>
            </a:endParaRPr>
          </a:p>
        </p:txBody>
      </p:sp>
      <p:sp>
        <p:nvSpPr>
          <p:cNvPr id="2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y turbine in these projects is not complete by the end of 2003, FPL Group Capital will make the portfolio financially whole on the next payment date for lost revenues and PTCs until the turbine achieves completion. This obligation includes the loss of all PTCs for any turbine that is not placed in service by the end of 2003.</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turbine is not placed into service by the end of 2003, which is highly unlikely, FPL Group Capital will essentially buyout the turbine to make the portfolio financially whole.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ed for and type of additional support for completion of the Projects will be determined based upon input from the Lenders’ Independent Engineer and considering the final budget for the Projects and the nature of the Projects’ construction arrangements (e.g., turnkey nature of EPC Contract, level of contingency); provided that (i) the Sponsor shall not provide any guarantee related to debt service upon acceleration, and (ii) any such completion support shall terminate on Conversion Date and be capped in amount.</a:t>
            </a:r>
            <a:endParaRPr b="0" lang="en-US" sz="1600" spc="-1" strike="noStrike">
              <a:solidFill>
                <a:srgbClr val="000000"/>
              </a:solidFill>
              <a:latin typeface="Arial"/>
            </a:endParaRPr>
          </a:p>
        </p:txBody>
      </p:sp>
      <p:sp>
        <p:nvSpPr>
          <p:cNvPr id="26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eptember 2011</a:t>
            </a:r>
            <a:endParaRPr b="0" lang="en-US" sz="1200" spc="-1" strike="noStrike">
              <a:solidFill>
                <a:srgbClr val="000000"/>
              </a:solidFill>
              <a:latin typeface="Arial"/>
            </a:endParaRPr>
          </a:p>
        </p:txBody>
      </p:sp>
      <p:sp>
        <p:nvSpPr>
          <p:cNvPr id="26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A047-3D86-42C4-B746-E4F7477A8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gent Debt Facility for Cost Over-runs</a:t>
            </a:r>
            <a:endParaRPr b="1" lang="en-US" sz="2000" spc="-1" strike="noStrike">
              <a:solidFill>
                <a:srgbClr val="000000"/>
              </a:solidFill>
              <a:latin typeface="Arial"/>
            </a:endParaRPr>
          </a:p>
        </p:txBody>
      </p:sp>
      <p:sp>
        <p:nvSpPr>
          <p:cNvPr id="2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ome additional funds available should there be cost over-runs or a delay in construction</a:t>
            </a:r>
            <a:endParaRPr b="0" lang="en-US" sz="2000" spc="-1" strike="noStrike">
              <a:solidFill>
                <a:srgbClr val="000000"/>
              </a:solidFill>
              <a:latin typeface="Arial"/>
            </a:endParaRPr>
          </a:p>
          <a:p>
            <a:pPr marL="231840" indent="-17316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ly on fairly standard construction contracts, which have a given price and date, and usually include penalties if commitments are not meant. </a:t>
            </a:r>
            <a:endParaRPr b="0" lang="en-US" sz="2000" spc="-1" strike="noStrike">
              <a:solidFill>
                <a:srgbClr val="000000"/>
              </a:solidFill>
              <a:latin typeface="Arial"/>
            </a:endParaRPr>
          </a:p>
          <a:p>
            <a:pPr marL="231840" indent="-17316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ill need to be real problems that are not covered by normal contractual terms, and banks will have a final say on whether any money is provided. </a:t>
            </a:r>
            <a:endParaRPr b="0" lang="en-US" sz="2000" spc="-1" strike="noStrike">
              <a:solidFill>
                <a:srgbClr val="000000"/>
              </a:solidFill>
              <a:latin typeface="Arial"/>
            </a:endParaRPr>
          </a:p>
          <a:p>
            <a:pPr marL="231840" indent="-17316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fairly unusual for banks to put up such reserves (usually, this is done exclusively by the investors)</a:t>
            </a:r>
            <a:endParaRPr b="0" lang="en-US" sz="20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it gives banks additional control over construction and a higher certainty that the project will be built successfully. Banks were willing to do after studying the plans and contracts in much detail and were comfortable with the technical challenges, the solutions used to solve them and the backup plans. </a:t>
            </a:r>
            <a:endParaRPr b="0" lang="en-US" sz="1800" spc="-1" strike="noStrike">
              <a:solidFill>
                <a:srgbClr val="000000"/>
              </a:solidFill>
              <a:latin typeface="Arial"/>
            </a:endParaRPr>
          </a:p>
        </p:txBody>
      </p:sp>
      <p:sp>
        <p:nvSpPr>
          <p:cNvPr id="26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eptember 2011</a:t>
            </a:r>
            <a:endParaRPr b="0" lang="en-US" sz="1200" spc="-1" strike="noStrike">
              <a:solidFill>
                <a:srgbClr val="000000"/>
              </a:solidFill>
              <a:latin typeface="Arial"/>
            </a:endParaRPr>
          </a:p>
        </p:txBody>
      </p:sp>
      <p:sp>
        <p:nvSpPr>
          <p:cNvPr id="26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B93F-EE1C-4832-BBAF-A756AC29D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ess Amalia (Q7) Offshore Wind Project</a:t>
            </a:r>
            <a:endParaRPr b="1" lang="en-US" sz="2000" spc="-1" strike="noStrike">
              <a:solidFill>
                <a:srgbClr val="000000"/>
              </a:solidFill>
              <a:latin typeface="Arial"/>
            </a:endParaRPr>
          </a:p>
        </p:txBody>
      </p:sp>
      <p:sp>
        <p:nvSpPr>
          <p:cNvPr id="269" name="PlaceHolder 2"/>
          <p:cNvSpPr>
            <a:spLocks noGrp="1"/>
          </p:cNvSpPr>
          <p:nvPr>
            <p:ph/>
          </p:nvPr>
        </p:nvSpPr>
        <p:spPr>
          <a:xfrm>
            <a:off x="457200" y="1600200"/>
            <a:ext cx="6019920" cy="464832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Period – 7 Years</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eriod – 2 Years</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turbines of 2 MW, 120MW</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to the grid first quarter 2008.</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operation 2nd quarter 2008.</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 25 Oct 2006</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7 wind farm: furthest from the coast, and in the deepest water</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km off the coast</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to 24 meters of water. </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7 furthest from coast and in the deepest water.</a:t>
            </a:r>
            <a:endParaRPr b="0" lang="en-US" sz="1800" spc="-1" strike="noStrike">
              <a:solidFill>
                <a:srgbClr val="000000"/>
              </a:solidFill>
              <a:latin typeface="Arial"/>
            </a:endParaRPr>
          </a:p>
          <a:p>
            <a:pPr marL="23184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4" descr="Wind_Map"/>
          <p:cNvPicPr/>
          <p:nvPr/>
        </p:nvPicPr>
        <p:blipFill>
          <a:blip r:embed="rId1"/>
          <a:stretch/>
        </p:blipFill>
        <p:spPr>
          <a:xfrm>
            <a:off x="6324480" y="2743200"/>
            <a:ext cx="2581560" cy="3324240"/>
          </a:xfrm>
          <a:prstGeom prst="rect">
            <a:avLst/>
          </a:prstGeom>
          <a:ln w="0">
            <a:noFill/>
          </a:ln>
        </p:spPr>
      </p:pic>
      <p:sp>
        <p:nvSpPr>
          <p:cNvPr id="271"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DADF-0BF7-4CB9-9C79-EEC50DD59CD0}"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7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8B17-4039-4F13-B1D9-58F8DDF00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for Princess Amalia Off Shore Project</a:t>
            </a:r>
            <a:endParaRPr b="1" lang="en-US" sz="2000" spc="-1" strike="noStrike">
              <a:solidFill>
                <a:srgbClr val="000000"/>
              </a:solidFill>
              <a:latin typeface="Arial"/>
            </a:endParaRPr>
          </a:p>
        </p:txBody>
      </p:sp>
      <p:sp>
        <p:nvSpPr>
          <p:cNvPr id="2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83m </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9m</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Credi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m</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34m</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 and Terms</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year debt</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ibor + 150-200 BPS</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weep</a:t>
            </a:r>
            <a:endParaRPr b="0" lang="en-US" sz="1800" spc="-1" strike="noStrike">
              <a:solidFill>
                <a:srgbClr val="000000"/>
              </a:solidFill>
              <a:latin typeface="Arial"/>
            </a:endParaRPr>
          </a:p>
          <a:p>
            <a:pPr lvl="1" marL="855720" indent="-28908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Insurance and Guarantee in O&amp;M contract</a:t>
            </a:r>
            <a:endParaRPr b="0" lang="en-US" sz="1800" spc="-1" strike="noStrike">
              <a:solidFill>
                <a:srgbClr val="000000"/>
              </a:solidFill>
              <a:latin typeface="Arial"/>
            </a:endParaRPr>
          </a:p>
          <a:p>
            <a:pPr marL="231840"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1BE8-6754-41CB-B761-776329B3341E}"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7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5A0B-C85D-423A-AA5B-78EF90CAE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on and Cost of Princess Amalia Wind Project</a:t>
            </a:r>
            <a:endParaRPr b="1" lang="en-US" sz="2000" spc="-1" strike="noStrike">
              <a:solidFill>
                <a:srgbClr val="000000"/>
              </a:solidFill>
              <a:latin typeface="Arial"/>
            </a:endParaRPr>
          </a:p>
        </p:txBody>
      </p:sp>
      <p:sp>
        <p:nvSpPr>
          <p:cNvPr id="2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Generation 435GW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5,000/(8760 x 120) = 41.4%</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383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per kW (120 MW)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3,191/kW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09/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stas 10 year O&amp;M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a:t>
            </a:r>
            <a:endParaRPr b="0" lang="en-US" sz="1800" spc="-1" strike="noStrike">
              <a:solidFill>
                <a:srgbClr val="000000"/>
              </a:solidFill>
              <a:latin typeface="Arial"/>
            </a:endParaRPr>
          </a:p>
        </p:txBody>
      </p:sp>
      <p:sp>
        <p:nvSpPr>
          <p:cNvPr id="281"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4BB8-B9EF-48AB-A71F-B2EAAF6D3D88}"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8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5DB6-8FA9-4E42-9BE9-74200B88F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7 - Construction</a:t>
            </a:r>
            <a:endParaRPr b="1" lang="en-US" sz="2000" spc="-1" strike="noStrike">
              <a:solidFill>
                <a:srgbClr val="000000"/>
              </a:solidFill>
              <a:latin typeface="Arial"/>
            </a:endParaRPr>
          </a:p>
        </p:txBody>
      </p:sp>
      <p:sp>
        <p:nvSpPr>
          <p:cNvPr id="2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ors have been wary of providing fully wrapped Engineering, Procurement and Construction (EPC) contracts which is normally a standard requirement of project finance and sponsors.</a:t>
            </a:r>
            <a:endParaRPr b="0" lang="en-US" sz="2000" spc="-1" strike="noStrike">
              <a:solidFill>
                <a:srgbClr val="000000"/>
              </a:solidFill>
              <a:latin typeface="Arial"/>
            </a:endParaRPr>
          </a:p>
          <a:p>
            <a:pPr marL="231840" indent="-173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ncing also covers the construction phase of the wind farm. This has resolved an issue which has bogged down a number of other similar projects in Europe.</a:t>
            </a:r>
            <a:endParaRPr b="0" lang="en-US" sz="2000" spc="-1" strike="noStrike">
              <a:solidFill>
                <a:srgbClr val="000000"/>
              </a:solidFill>
              <a:latin typeface="Arial"/>
            </a:endParaRPr>
          </a:p>
          <a:p>
            <a:pPr marL="231840" indent="-1731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willing to provide contingent financing because they studied the plans and contracts in much detail and are comfortable with the technical challenges, the solutions used to solve them and the backup plans. </a:t>
            </a:r>
            <a:endParaRPr b="0" lang="en-US" sz="2000" spc="-1" strike="noStrike">
              <a:solidFill>
                <a:srgbClr val="000000"/>
              </a:solidFill>
              <a:latin typeface="Arial"/>
            </a:endParaRPr>
          </a:p>
        </p:txBody>
      </p:sp>
      <p:sp>
        <p:nvSpPr>
          <p:cNvPr id="286"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368C-0F83-4D4F-BA88-BD269094D5AF}"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8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8318-8D47-4AFB-90FB-10536CFE1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7 Financing – Unique Features</a:t>
            </a:r>
            <a:endParaRPr b="1" lang="en-US" sz="2000" spc="-1" strike="noStrike">
              <a:solidFill>
                <a:srgbClr val="000000"/>
              </a:solidFill>
              <a:latin typeface="Arial"/>
            </a:endParaRPr>
          </a:p>
        </p:txBody>
      </p:sp>
      <p:sp>
        <p:nvSpPr>
          <p:cNvPr id="2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to mitigate the risks associated with the construction and long term operation:</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a contingent facility (jointly with contingent equity provided by ENECO) to cover potential cost overruns or delay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 mechanis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ly tailored availability guarantees (under the operating contract with Vestas) that allow debt service to continue even during periods of lower availability than expect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11-year insurance programme with Delta-Lloyd N.V.</a:t>
            </a:r>
            <a:endParaRPr b="0" lang="en-US" sz="1800" spc="-1" strike="noStrike">
              <a:solidFill>
                <a:srgbClr val="000000"/>
              </a:solidFill>
              <a:latin typeface="Arial"/>
            </a:endParaRPr>
          </a:p>
        </p:txBody>
      </p:sp>
      <p:sp>
        <p:nvSpPr>
          <p:cNvPr id="291"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4E8F-6190-4B67-967D-E624264C2725}"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9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C61F-F501-47E5-96B1-23C4EE6F4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a:t>
            </a:r>
            <a:endParaRPr b="1" lang="en-US" sz="2000" spc="-1" strike="noStrike">
              <a:solidFill>
                <a:srgbClr val="000000"/>
              </a:solidFill>
              <a:latin typeface="Arial"/>
            </a:endParaRPr>
          </a:p>
        </p:txBody>
      </p:sp>
      <p:sp>
        <p:nvSpPr>
          <p:cNvPr id="2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d by loans from Rabo, Dexia and BNP Paribas acting as Mandated Lead Arrangers (MLA).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ksport Kredit Fonden, the Danish export credit agency supported the export of the Vestas turbines by also participating in the financing.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financing for the project includes a €189 million, 11-year, long-term project finance facility</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30 million standby facility to cover contingencies.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bo provided a junior loan to fund the debt service reserve account upon completion.</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Financing Percent 57%</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ng-fencing and Bankruptcy of Econcern</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Date Placeholder 1"/>
          <p:cNvSpPr/>
          <p:nvPr/>
        </p:nvSpPr>
        <p:spPr>
          <a:xfrm>
            <a:off x="595440" y="6245280"/>
            <a:ext cx="1857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267F-D0F3-4571-80EC-853DC0CF87C6}"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9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
        <p:nvSpPr>
          <p:cNvPr id="2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0238-6084-476E-80F8-0BC5527DA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in Tariffs in Netherlands</a:t>
            </a:r>
            <a:endParaRPr b="1" lang="en-US" sz="2000" spc="-1" strike="noStrike">
              <a:solidFill>
                <a:srgbClr val="000000"/>
              </a:solidFill>
              <a:latin typeface="Arial"/>
            </a:endParaRPr>
          </a:p>
        </p:txBody>
      </p:sp>
      <p:pic>
        <p:nvPicPr>
          <p:cNvPr id="300" name="Picture 4" descr=""/>
          <p:cNvPicPr/>
          <p:nvPr/>
        </p:nvPicPr>
        <p:blipFill>
          <a:blip r:embed="rId1"/>
          <a:stretch/>
        </p:blipFill>
        <p:spPr>
          <a:xfrm>
            <a:off x="1752480" y="1219320"/>
            <a:ext cx="5639040" cy="51289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Shore Wind Financing Example</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rnton Bank in Belgium is the largest project-financed wind farm in Europe, and will have a capacity of 325MW when complet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ght European commercial banks, along with the European Investment Bank and the German and Danish export credit agencies, are providing around €900m ($1.2bn) in funding and risk-sharing for the construction of the wind farm.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of Project is about €1,388m ($1,850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Financing is 65%</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WE Innogy, the utility's renewables division, is the largest private shareholder in the project, with 26.7% ownership. The first stage of Thornton Bank is running at around 97% availability, RWE add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ed Project Finance Structures for Renewable Projects</a:t>
            </a:r>
            <a:endParaRPr b="1" lang="en-US" sz="2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 in Private Analysis</a:t>
            </a:r>
            <a:endParaRPr b="1" lang="en-US" sz="2000" spc="-1" strike="noStrike">
              <a:solidFill>
                <a:srgbClr val="000000"/>
              </a:solidFill>
              <a:latin typeface="Arial"/>
            </a:endParaRPr>
          </a:p>
        </p:txBody>
      </p:sp>
      <p:sp>
        <p:nvSpPr>
          <p:cNvPr id="305" name="PlaceHolder 2"/>
          <p:cNvSpPr>
            <a:spLocks noGrp="1"/>
          </p:cNvSpPr>
          <p:nvPr>
            <p:ph/>
          </p:nvPr>
        </p:nvSpPr>
        <p:spPr>
          <a:xfrm>
            <a:off x="761760" y="1523520"/>
            <a:ext cx="6491160" cy="10782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ble below illustrates the type of terms that are in renewable project finance transactions.</a:t>
            </a:r>
            <a:endParaRPr b="0" lang="en-US" sz="1400" spc="-1" strike="noStrike">
              <a:solidFill>
                <a:srgbClr val="000000"/>
              </a:solidFill>
              <a:latin typeface="Arial"/>
            </a:endParaRPr>
          </a:p>
          <a:p>
            <a:pPr marL="23184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6" name="Picture 4" descr=""/>
          <p:cNvPicPr/>
          <p:nvPr/>
        </p:nvPicPr>
        <p:blipFill>
          <a:blip r:embed="rId1"/>
          <a:stretch/>
        </p:blipFill>
        <p:spPr>
          <a:xfrm>
            <a:off x="1143000" y="2438280"/>
            <a:ext cx="6705720" cy="371484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 and Debt Repayment</a:t>
            </a:r>
            <a:endParaRPr b="1" lang="en-US" sz="2000" spc="-1" strike="noStrike">
              <a:solidFill>
                <a:srgbClr val="000000"/>
              </a:solidFill>
              <a:latin typeface="Arial"/>
            </a:endParaRPr>
          </a:p>
        </p:txBody>
      </p:sp>
      <p:sp>
        <p:nvSpPr>
          <p:cNvPr id="30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sion of multiple loans with debt sculpting</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M will provide a direct export loan for up to an amount equal to 50% of the Facility Amount, which loan will be covered by an EXIM guarantee, and (ii) the Banks will provide a loan for up to an amount equal to the difference between the Facility Amount and the EXIM Loan (the “Commercial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secured construction and term financing (the “Credit Facility”) of up to US$ [315-320] million (the “Facility Amount”), representing no more than [80]% of Project Costs (“Tranche A”).</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ment of Debt and Sculpting</a:t>
            </a:r>
            <a:endParaRPr b="1" lang="en-US" sz="2000" spc="-1" strike="noStrike">
              <a:solidFill>
                <a:srgbClr val="000000"/>
              </a:solidFill>
              <a:latin typeface="Arial"/>
            </a:endParaRPr>
          </a:p>
        </p:txBody>
      </p:sp>
      <p:sp>
        <p:nvSpPr>
          <p:cNvPr id="3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annual tailored installment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ny period, the DSCR is the ratio of</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cess of revenues received during such period (including interest income and proceeds of business interruption insurance and delay liquidated damages) over all operating expenses paid during such period,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d by the sum of the interest, fees (including commitment and any other fees payable by the Borrower), other financing costs and scheduled principal payments with respect to the Credit Facility payable during such period.</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imum and average DSCR in the base case financial model shall be no less than</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35]x when using wind energy production based on P50 one year wind forecasts and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1.0]x when using wind energy production based on a P99 one year wind forecast.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 Financing From Life Insurance Companies</a:t>
            </a:r>
            <a:endParaRPr b="1" lang="en-US" sz="2000" spc="-1" strike="noStrike">
              <a:solidFill>
                <a:srgbClr val="000000"/>
              </a:solidFill>
              <a:latin typeface="Arial"/>
            </a:endParaRPr>
          </a:p>
        </p:txBody>
      </p:sp>
      <p:sp>
        <p:nvSpPr>
          <p:cNvPr id="3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ergex Renewable Energy and its tribal partner have closed a C$168.5m ($165.9m) non-recourse construction and term project financing for the 49.9MW Kwoiek Creek run-of-river hydroelectric project located in British Columbia, Canada.</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ion loan will carry a fixed interest rate of 5.075%. It will convert into a 39-year term loan upon the start of the project's commercial operation and will amortize over a 36-year period starting three years from the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nancing was arranged with a group of life insurance companies comprising The Manufacturers Life Insurance Company as agent and lead lender, and also The Canada Life Assurance Company and The Great-West Life Assurance Company as lenders. "We are very satisfied with the terms of this financing agreement. We are especially pleased to have secured fixed-rate debt financing with a term of nearly 40 years, which corresponds to the duration of the power purchase agreement for this project,"   "We continue to limit our exposure to interest rate fluctuations, consistent with our strategy of derisking our business model,"</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an covers about 82-83% of the project cost with the balance to come from equity.</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ject is being developed through a 50-50 partnership with the Kanaka Bar Indian Band. Construction began in fourth quarter 2011 and commercial operation is expected to begin in fourth quarter 2013.</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woiek Creek's average annual production is estimated at 215,000MWh, enough to power approximately 22,000 households. All of the electricity generated will be covered by a 40-year power purchase agreement with provincial electric utility BC Hydro .</a:t>
            </a:r>
            <a:endParaRPr b="0" lang="en-US" sz="1400" spc="-1" strike="noStrike">
              <a:solidFill>
                <a:srgbClr val="000000"/>
              </a:solidFill>
              <a:latin typeface="Arial"/>
            </a:endParaRPr>
          </a:p>
        </p:txBody>
      </p:sp>
      <p:pic>
        <p:nvPicPr>
          <p:cNvPr id="313" name="Picture 5" descr=""/>
          <p:cNvPicPr/>
          <p:nvPr/>
        </p:nvPicPr>
        <p:blipFill>
          <a:blip r:embed="rId1"/>
          <a:stretch/>
        </p:blipFill>
        <p:spPr>
          <a:xfrm>
            <a:off x="5334120" y="6019920"/>
            <a:ext cx="2298600" cy="46656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Features of Renewable Energy Project Finance</a:t>
            </a:r>
            <a:endParaRPr b="1" lang="en-US" sz="2000" spc="-1" strike="noStrike">
              <a:solidFill>
                <a:srgbClr val="000000"/>
              </a:solidFill>
              <a:latin typeface="Arial"/>
            </a:endParaRPr>
          </a:p>
        </p:txBody>
      </p:sp>
      <p:sp>
        <p:nvSpPr>
          <p:cNvPr id="3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40% of Credit Spre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Requires Debt Service Reserve Account of Six Month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 Especially for Merchant Price Exposure</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for Wind Project</a:t>
            </a:r>
            <a:endParaRPr b="1" lang="en-US" sz="2000" spc="-1" strike="noStrike">
              <a:solidFill>
                <a:srgbClr val="000000"/>
              </a:solidFill>
              <a:latin typeface="Arial"/>
            </a:endParaRPr>
          </a:p>
        </p:txBody>
      </p:sp>
      <p:sp>
        <p:nvSpPr>
          <p:cNvPr id="3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the length of a loan is between 10 and 15 years, but loan terms have become longer as banks have become more experienced in the wind industr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est rate is often 1-1.5 per cent above the base rate at which the bank borrows their own funds (referred to as the interbank offer rate). In addition, banks usually charge a loan set-up fee of around 1 per cent of the loan cost, and they can make extra money by offering administrative and account services associated with the loan. Products to fix interest rates or foreign exchange rates are often sold to the project own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lso typical for investors to have a series of requirements over the loan period; these are referred to as ‘financial covenants’. These requirements are often the result of the due diligence and are listed within the ‘financing agreement’. Typical covenants include the regular provision of information about operational and financial reporting, insurance coverage and management of project bank accou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an Life</a:t>
            </a:r>
            <a:endParaRPr b="1" lang="en-US" sz="2000" spc="-1" strike="noStrike">
              <a:solidFill>
                <a:srgbClr val="000000"/>
              </a:solidFill>
              <a:latin typeface="Arial"/>
            </a:endParaRPr>
          </a:p>
        </p:txBody>
      </p:sp>
      <p:sp>
        <p:nvSpPr>
          <p:cNvPr id="3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P Paribas was in the market last week with a 144A for the Panoche Energy Center in California.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al is $330 million in siz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21.5-year final,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year average life maturity.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has a rating of BBB-' on the deal, which is expected to price this week. </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Credit Spreads and Incentive to Re-financing</a:t>
            </a:r>
            <a:endParaRPr b="1" lang="en-US" sz="2000" spc="-1" strike="noStrike">
              <a:solidFill>
                <a:srgbClr val="000000"/>
              </a:solidFill>
              <a:latin typeface="Arial"/>
            </a:endParaRPr>
          </a:p>
        </p:txBody>
      </p:sp>
      <p:sp>
        <p:nvSpPr>
          <p:cNvPr id="3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 East 2012</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Perio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5%</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Five Years of Operat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0%</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Years of Operation</a:t>
            </a:r>
            <a:r>
              <a:rPr b="0" lang="en-US" sz="1600" spc="-1" strike="noStrike">
                <a:solidFill>
                  <a:srgbClr val="000000"/>
                </a:solidFill>
                <a:latin typeface="Arial"/>
              </a:rPr>
              <a:t>	</a:t>
            </a:r>
            <a:r>
              <a:rPr b="0" lang="en-US" sz="1600" spc="-1" strike="noStrike">
                <a:solidFill>
                  <a:srgbClr val="000000"/>
                </a:solidFill>
                <a:latin typeface="Arial"/>
              </a:rPr>
              <a:t>2.7%</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tin Americ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Completio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25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1-3: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37.5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4-6: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50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7-9: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475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10-12: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00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s 13: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550 basis points p.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repayment fee will be applied.</a:t>
            </a: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ign Exchange and Interest Rate Hedging</a:t>
            </a:r>
            <a:endParaRPr b="1" lang="en-US" sz="2000" spc="-1" strike="noStrike">
              <a:solidFill>
                <a:srgbClr val="000000"/>
              </a:solidFill>
              <a:latin typeface="Arial"/>
            </a:endParaRPr>
          </a:p>
        </p:txBody>
      </p:sp>
      <p:sp>
        <p:nvSpPr>
          <p:cNvPr id="3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rrower shall enter into an interest rate hedging program satisfactory to the Lenders pursuant to which, at the date of the initial disbursement under the Credit Facility, the Borrower shall have hedged or otherwise fixed at least 75% of all of its interest rate risk. The interest rate hedges shall expire no earlier than the Maturity Date (subject to early termination pursuant to “Cash Sweep” below). All payments under the hedge agreements will rank and be secured on a </a:t>
            </a:r>
            <a:r>
              <a:rPr b="0" i="1" lang="en-US" sz="1600" spc="-1" strike="noStrike">
                <a:solidFill>
                  <a:srgbClr val="000000"/>
                </a:solidFill>
                <a:latin typeface="Arial"/>
              </a:rPr>
              <a:t>pari passu </a:t>
            </a:r>
            <a:r>
              <a:rPr b="0" lang="en-US" sz="1600" spc="-1" strike="noStrike">
                <a:solidFill>
                  <a:srgbClr val="000000"/>
                </a:solidFill>
                <a:latin typeface="Arial"/>
              </a:rPr>
              <a:t>basis with the Credit Facility.</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the interest rate hedge at a credit spread of 30 bps. Upon disbursement of the Facilities, the Mandated Lead Arrangers will novate the hedge to lenders participating in the hedge for their pro-rata participation in the Credit Facility. Should any Mandated Lead Arranger or any other Lender elect not to participate in the interest rate hedge, the other Mandated Lead Arrangers shall have the right to provide that porti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rrower will be required to adequately hedge the foreign exchange risk during the construction period. All payments under the foreign exchange hedge agreements will rank and be secured on a </a:t>
            </a:r>
            <a:r>
              <a:rPr b="0" i="1" lang="en-US" sz="1600" spc="-1" strike="noStrike">
                <a:solidFill>
                  <a:srgbClr val="000000"/>
                </a:solidFill>
                <a:latin typeface="Arial"/>
              </a:rPr>
              <a:t>pari passu </a:t>
            </a:r>
            <a:r>
              <a:rPr b="0" lang="en-US" sz="1600" spc="-1" strike="noStrike">
                <a:solidFill>
                  <a:srgbClr val="000000"/>
                </a:solidFill>
                <a:latin typeface="Arial"/>
              </a:rPr>
              <a:t>basis with the Credit Facility.</a:t>
            </a:r>
            <a:endParaRPr b="0" lang="en-US" sz="16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kie Wind Energy Project – Canadian Example</a:t>
            </a:r>
            <a:endParaRPr b="1" lang="en-US" sz="2000" spc="-1" strike="noStrike">
              <a:solidFill>
                <a:srgbClr val="000000"/>
              </a:solidFill>
              <a:latin typeface="Arial"/>
            </a:endParaRPr>
          </a:p>
        </p:txBody>
      </p:sp>
      <p:sp>
        <p:nvSpPr>
          <p:cNvPr id="3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LB project financing for a wind farm in British Columbia, Canada.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150 MW</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renewable energy developer EarthFirst Canada Inc.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214 million including a two-year construction period and will have a 20-year final maturity</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ife: 10- to 13-year range.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Agreement: A 20-year power purchase agreement with British Columbia-based electric utility BC Hydro, which has a rating of AA' by Standard &amp; Poor's.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Example from Chile</a:t>
            </a:r>
            <a:endParaRPr b="1" lang="en-US" sz="2000" spc="-1" strike="noStrike">
              <a:solidFill>
                <a:srgbClr val="000000"/>
              </a:solidFill>
              <a:latin typeface="Arial"/>
            </a:endParaRPr>
          </a:p>
        </p:txBody>
      </p:sp>
      <p:sp>
        <p:nvSpPr>
          <p:cNvPr id="32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joint venture of AEI, Pattern Energy and Antofagasta Minerals has started construction work at the 115MW El Arrayan wind farm in Chile after securing $245m financing for the project.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artners are building the wind plant – which they say will be Chile's largest – via their Parque Eolico El Arrayan (PEEA) consortium.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roject is located about 400km north of Santiago on the Chilean coast, and should come online in early 2014.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ermany's Siemens will provide 50 2.3MW turbines for the wind farm – the same machines that Pattern Energy is using at its other projects around the world.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245m package – which completed the project's financing – includes funding for the two-year construction period, liquidity reserves and a 15-year term loan. The funds will be arranged by Denmark’s Export Kredit Fonden, Sumitomo Mitsui Banking, Bank of Tokyo-Mitsubishi UFJ, and Credit Agricole. Chile's Corpbanca is also involved. </a:t>
            </a:r>
            <a:endParaRPr b="0" lang="en-US" sz="1500" spc="-1" strike="noStrike">
              <a:solidFill>
                <a:srgbClr val="000000"/>
              </a:solidFill>
              <a:latin typeface="Arial"/>
            </a:endParaRPr>
          </a:p>
          <a:p>
            <a:pPr marL="229320" indent="-1713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November 2011, PEEA entered into a 20-year power purchase agreement with Minera Los Pelambres, a mining company controlled by Antofagasta Minerals. </a:t>
            </a:r>
            <a:endParaRPr b="0" lang="en-US" sz="15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1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3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3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letion Date Definition for Lenders</a:t>
            </a:r>
            <a:endParaRPr b="1" lang="en-US" sz="2000" spc="-1" strike="noStrike">
              <a:solidFill>
                <a:srgbClr val="000000"/>
              </a:solidFill>
              <a:latin typeface="Arial"/>
            </a:endParaRPr>
          </a:p>
        </p:txBody>
      </p:sp>
      <p:sp>
        <p:nvSpPr>
          <p:cNvPr id="3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no Default or Event of Default under any Project Contract or Financing Document shall have occurred and be continuing, the date when: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ach Project has initiated commercial operations under the Power Purchase Agreements (“PPAs”) and the Independent Engineer so certifies;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ompletion under the EPC Contracts has been achieved and the Projects have been completed and accepted by the Borrower pursuant to the EPC Contracts and are ready for continuous use, and the Independent Engineer so certifies;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he Projects have been completed in accordance with environmental and social requirements, and the Environmental Consultant so certifies;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any (i) damages payable by the Borrower under the EPC Contracts have been paid or provisioned and (ii) liquidated damages payable by the EPC Contractor under the EPC Contracts (including in respect of warranties assigned to the Lenders) have been paid or bridged by the Sponsor; provided that this subclause </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all governmental approvals necessary for operation of the Projects are in full force and effec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Reserve Accounts are fully funde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the Sponsor has fulfilled its Base Equity Contribution and contingent equity contribution obligations, if any;</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ll required insurance and reinsurance for the Projects is in forc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l interconnection facilities have been completed and all utility arrangements are in place; and</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other conditions that MLAs deem appropriate once due diligence of the Projects by the MLAs and the consultants has been carried out and as a result of the findings thereof.</a:t>
            </a:r>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3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of Funds and Project Summary</a:t>
            </a:r>
            <a:endParaRPr b="1" lang="en-US" sz="2000" spc="-1" strike="noStrike">
              <a:solidFill>
                <a:srgbClr val="000000"/>
              </a:solidFill>
              <a:latin typeface="Arial"/>
            </a:endParaRPr>
          </a:p>
        </p:txBody>
      </p:sp>
      <p:sp>
        <p:nvSpPr>
          <p:cNvPr id="3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s and uses of funds is a starting point in analysing the proje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sources and uses of funds to revie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per kW of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of financing</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fees and costs</a:t>
            </a:r>
            <a:endParaRPr b="0" lang="en-US" sz="1600" spc="-1" strike="noStrike">
              <a:solidFill>
                <a:srgbClr val="000000"/>
              </a:solidFill>
              <a:latin typeface="Arial"/>
            </a:endParaRPr>
          </a:p>
        </p:txBody>
      </p:sp>
      <p:pic>
        <p:nvPicPr>
          <p:cNvPr id="340" name="Picture 4" descr=""/>
          <p:cNvPicPr/>
          <p:nvPr/>
        </p:nvPicPr>
        <p:blipFill>
          <a:blip r:embed="rId1"/>
          <a:stretch/>
        </p:blipFill>
        <p:spPr>
          <a:xfrm>
            <a:off x="685800" y="3657600"/>
            <a:ext cx="7572240" cy="2590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Equity Funding and Draw-down Priority</a:t>
            </a:r>
            <a:endParaRPr b="1" lang="en-US" sz="2000" spc="-1" strike="noStrike">
              <a:solidFill>
                <a:srgbClr val="000000"/>
              </a:solidFill>
              <a:latin typeface="Arial"/>
            </a:endParaRPr>
          </a:p>
        </p:txBody>
      </p:sp>
      <p:sp>
        <p:nvSpPr>
          <p:cNvPr id="3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mount equal to the difference between Project Costs and the Facility Amount </a:t>
            </a:r>
            <a:r>
              <a:rPr b="1" lang="en-US" sz="1600" spc="-1" strike="noStrike">
                <a:solidFill>
                  <a:srgbClr val="000000"/>
                </a:solidFill>
                <a:latin typeface="Arial"/>
              </a:rPr>
              <a:t>but not less than [20]% of Project Cost</a:t>
            </a:r>
            <a:r>
              <a:rPr b="0" lang="en-US" sz="1600" spc="-1" strike="noStrike">
                <a:solidFill>
                  <a:srgbClr val="000000"/>
                </a:solidFill>
                <a:latin typeface="Arial"/>
              </a:rPr>
              <a:t> will be contributed by the Sponsor by way of cash equity contributions, fully subordinated debt, or other equity instrument in a form satisfactory to the Lend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option of the Sponsor, the Base Equity Contributions may be (i) </a:t>
            </a:r>
            <a:r>
              <a:rPr b="1" lang="en-US" sz="1600" spc="-1" strike="noStrike">
                <a:solidFill>
                  <a:srgbClr val="000000"/>
                </a:solidFill>
                <a:latin typeface="Arial"/>
              </a:rPr>
              <a:t>funded upfront,or (ii) funded on a pro rata basis</a:t>
            </a:r>
            <a:r>
              <a:rPr b="0" lang="en-US" sz="1600" spc="-1" strike="noStrike">
                <a:solidFill>
                  <a:srgbClr val="000000"/>
                </a:solidFill>
                <a:latin typeface="Arial"/>
              </a:rPr>
              <a:t> with drawdowns on the Credit Facility, subject to the provision of an irrevocable stand-by letter of credit for the full amount of the Base Equity Contributions from one or more financial institution(s) acceptable to the Lenders; provided that, in the case of (ii) above, and subject to credit analysis of the Sponsor by the Lenders, a limited portion of such Base Equity Contributions (applying to Equity Contribution Obligations during a limited period of time) may be provided in the form of a corporate guarantee from the Sponsor satisfactory to the Lend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t the Conversion Date the amount of Base Equity Contributions is in excess of the amounts set as per this provision, such excess will be returned to the Sponsor in the last and final drawdown, according to an updated financial model acceptable to the Lenders as per the debt sizing criteria.</a:t>
            </a:r>
            <a:endParaRPr b="0" lang="en-US" sz="16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yment of Debt – Mini Perm</a:t>
            </a:r>
            <a:endParaRPr b="1" lang="en-US" sz="2000" spc="-1" strike="noStrike">
              <a:solidFill>
                <a:srgbClr val="000000"/>
              </a:solidFill>
              <a:latin typeface="Arial"/>
            </a:endParaRPr>
          </a:p>
        </p:txBody>
      </p:sp>
      <p:sp>
        <p:nvSpPr>
          <p:cNvPr id="3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sation Period</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Sweep</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anc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sation using long time period (e.g. 18 yea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 is shorter time period</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nnot re-finance, impose a cash flow sweep</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turity of up to 7 years from the commercial operations date, but in no event more than 8.5 years from Financial Close (the “C+7 Tranche”). The Fully Amortizing Tranche will have the right to “put” their loans upon maturity of the C+7 Tranche if that tranche has not been refinanced or otherwise repaid prior to its maturity.</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 with Mini-Perm</a:t>
            </a:r>
            <a:endParaRPr b="1" lang="en-US" sz="2000" spc="-1" strike="noStrike">
              <a:solidFill>
                <a:srgbClr val="000000"/>
              </a:solidFill>
              <a:latin typeface="Arial"/>
            </a:endParaRPr>
          </a:p>
        </p:txBody>
      </p:sp>
      <p:sp>
        <p:nvSpPr>
          <p:cNvPr id="3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Sweep Depending on wind data and further due diligence, and starting in year three after the PCOD, 50% percentage of the cash flow available for distribution in each calculation period will be applied to prepay the Credit Facilities with the goal of, under the one-year P50 Base Case projections, reducing the balloon under the C+7 Tranche to the balloon that would prevail under a 12-year amortization schedu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perm Example</a:t>
            </a:r>
            <a:endParaRPr b="1" lang="en-US" sz="2000" spc="-1" strike="noStrike">
              <a:solidFill>
                <a:srgbClr val="000000"/>
              </a:solidFill>
              <a:latin typeface="Arial"/>
            </a:endParaRPr>
          </a:p>
        </p:txBody>
      </p:sp>
      <p:sp>
        <p:nvSpPr>
          <p:cNvPr id="3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JM" sz="1400" spc="-1" strike="noStrike">
                <a:solidFill>
                  <a:srgbClr val="000000"/>
                </a:solidFill>
                <a:latin typeface="Arial"/>
              </a:rPr>
              <a:t>Terra-Gen Power financing construction of one of the largest US wind developments with a $650m deal to add 300MW at the Alta Wind Energy Center (AWEC) in California.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A syndicate of international banks are providing construction, </a:t>
            </a:r>
            <a:r>
              <a:rPr b="1" lang="en-JM" sz="1400" spc="-1" strike="noStrike">
                <a:solidFill>
                  <a:srgbClr val="000000"/>
                </a:solidFill>
                <a:latin typeface="Arial"/>
              </a:rPr>
              <a:t>seven-year term</a:t>
            </a:r>
            <a:r>
              <a:rPr b="0" lang="en-JM" sz="1400" spc="-1" strike="noStrike">
                <a:solidFill>
                  <a:srgbClr val="000000"/>
                </a:solidFill>
                <a:latin typeface="Arial"/>
              </a:rPr>
              <a:t> and bridge loans for the 168MW Alta Wind 7 and 132MW Alta Wind 9 projects, which will increase capacity at the broader AWEC to 1,320MW. The bridge loans provide financing until the projects are complete and can qualify for the 30% Treasury cash grant.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Co-book runners were Union Bank and RBS Securities. Joint lead arrangers were Bank of Montreal, Canadian Imperial Bank of Commerce, Key Bank, KfW IPEX Bank, and Santander. Also participating were Sumitomo, BayernLB, DZ Bank, and Associated Bank.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The projects are on course for completion in the fourth quarter 2012, with Blattner Energy leading construction. </a:t>
            </a:r>
            <a:r>
              <a:rPr b="0" lang="en-JM" sz="1400" spc="-1" strike="noStrike" u="sng">
                <a:solidFill>
                  <a:srgbClr val="ccccff"/>
                </a:solidFill>
                <a:uFillTx/>
                <a:latin typeface="Arial"/>
                <a:hlinkClick r:id="rId1"/>
              </a:rPr>
              <a:t>ain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300 MW x $ 2,000 = $ 600m</a:t>
            </a:r>
            <a:r>
              <a:rPr b="0" lang="en-JM" sz="1400" spc="-1" strike="noStrike" u="sng">
                <a:solidFill>
                  <a:srgbClr val="ccccff"/>
                </a:solidFill>
                <a:uFillTx/>
                <a:latin typeface="Arial"/>
                <a:hlinkClick r:id="rId2"/>
              </a:rPr>
              <a:t>mano</a:t>
            </a:r>
            <a:r>
              <a:rPr b="0" lang="en-JM" sz="1400" spc="-1" strike="noStrike">
                <a:solidFill>
                  <a:srgbClr val="000000"/>
                </a:solidFill>
                <a:latin typeface="Arial"/>
              </a:rPr>
              <a:t>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400" spc="-1" strike="noStrike">
                <a:solidFill>
                  <a:srgbClr val="000000"/>
                </a:solidFill>
                <a:latin typeface="Arial"/>
              </a:rPr>
              <a:t>Published: Thursday, April 19 2012</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 Project Finance Entities</a:t>
            </a:r>
            <a:endParaRPr b="1" lang="en-US" sz="2000" spc="-1" strike="noStrike">
              <a:solidFill>
                <a:srgbClr val="000000"/>
              </a:solidFill>
              <a:latin typeface="Arial"/>
            </a:endParaRPr>
          </a:p>
        </p:txBody>
      </p:sp>
      <p:pic>
        <p:nvPicPr>
          <p:cNvPr id="350" name="Picture 3" descr=""/>
          <p:cNvPicPr/>
          <p:nvPr/>
        </p:nvPicPr>
        <p:blipFill>
          <a:blip r:embed="rId1"/>
          <a:stretch/>
        </p:blipFill>
        <p:spPr>
          <a:xfrm>
            <a:off x="1330200" y="1600200"/>
            <a:ext cx="6483600" cy="45259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1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116"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3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3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 in G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PC contractor can be investor</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3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3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360"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361"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362"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36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Waterfall</a:t>
            </a:r>
            <a:endParaRPr b="1" lang="en-US" sz="2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a:t>
            </a:r>
            <a:endParaRPr b="1" lang="en-US" sz="2000" spc="-1" strike="noStrike">
              <a:solidFill>
                <a:srgbClr val="000000"/>
              </a:solidFill>
              <a:latin typeface="Arial"/>
            </a:endParaRPr>
          </a:p>
        </p:txBody>
      </p:sp>
      <p:sp>
        <p:nvSpPr>
          <p:cNvPr id="3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count that will be funded at the PCOD in an amount equal to the next six months’ debt service requirement, with a minimum to be determin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RA shall be maintained thereafter in an amount equal to the projected debt service requirement for the </a:t>
            </a:r>
            <a:r>
              <a:rPr b="1" i="1" lang="en-US" sz="1800" spc="-1" strike="noStrike">
                <a:solidFill>
                  <a:srgbClr val="000000"/>
                </a:solidFill>
                <a:latin typeface="Arial"/>
              </a:rPr>
              <a:t>subsequent six month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extent any amounts on deposit in the DSRA are applied to pay debt service on any payment date, the DSRA </a:t>
            </a:r>
            <a:r>
              <a:rPr b="1" i="1" lang="en-US" sz="1800" spc="-1" strike="noStrike">
                <a:solidFill>
                  <a:srgbClr val="000000"/>
                </a:solidFill>
                <a:latin typeface="Arial"/>
              </a:rPr>
              <a:t>must be replenished</a:t>
            </a:r>
            <a:r>
              <a:rPr b="0" lang="en-US" sz="1800" spc="-1" strike="noStrike">
                <a:solidFill>
                  <a:srgbClr val="000000"/>
                </a:solidFill>
                <a:latin typeface="Arial"/>
              </a:rPr>
              <a:t> to its required balance prior to next payment d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RA shall be invested in time deposits with maturities of one, two, or three months from the date of deposit bearing a rate of interest to be determined so long as such deposits continue to qualify as permitted investments as defined under the executed Credit Agreement and Security Agreemen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s of DSRA</a:t>
            </a:r>
            <a:endParaRPr b="1" lang="en-US" sz="2000" spc="-1" strike="noStrike">
              <a:solidFill>
                <a:srgbClr val="000000"/>
              </a:solidFill>
              <a:latin typeface="Arial"/>
            </a:endParaRPr>
          </a:p>
        </p:txBody>
      </p:sp>
      <p:sp>
        <p:nvSpPr>
          <p:cNvPr id="3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Debt Serv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 on Debt minus Interest Rate on Cas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½ of 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ommitment Fee on Letter of Credit</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Waterfall</a:t>
            </a:r>
            <a:endParaRPr b="0" lang="en-US" sz="2400" spc="-1" strike="noStrike">
              <a:solidFill>
                <a:srgbClr val="000000"/>
              </a:solidFill>
              <a:latin typeface="Arial"/>
            </a:endParaRPr>
          </a:p>
        </p:txBody>
      </p:sp>
      <p:pic>
        <p:nvPicPr>
          <p:cNvPr id="371" name="Picture 3" descr=""/>
          <p:cNvPicPr/>
          <p:nvPr/>
        </p:nvPicPr>
        <p:blipFill>
          <a:blip r:embed="rId1"/>
          <a:stretch/>
        </p:blipFill>
        <p:spPr>
          <a:xfrm>
            <a:off x="2722680" y="3606840"/>
            <a:ext cx="3203280" cy="2387520"/>
          </a:xfrm>
          <a:prstGeom prst="rect">
            <a:avLst/>
          </a:prstGeom>
          <a:ln w="0">
            <a:noFill/>
          </a:ln>
        </p:spPr>
      </p:pic>
      <p:pic>
        <p:nvPicPr>
          <p:cNvPr id="372" name="Picture 4" descr=""/>
          <p:cNvPicPr/>
          <p:nvPr/>
        </p:nvPicPr>
        <p:blipFill>
          <a:blip r:embed="rId2"/>
          <a:stretch/>
        </p:blipFill>
        <p:spPr>
          <a:xfrm>
            <a:off x="2712960" y="3573360"/>
            <a:ext cx="3200400" cy="2378160"/>
          </a:xfrm>
          <a:prstGeom prst="rect">
            <a:avLst/>
          </a:prstGeom>
          <a:ln w="0">
            <a:noFill/>
          </a:ln>
        </p:spPr>
      </p:pic>
      <p:pic>
        <p:nvPicPr>
          <p:cNvPr id="373" name="Picture 5" descr=""/>
          <p:cNvPicPr/>
          <p:nvPr/>
        </p:nvPicPr>
        <p:blipFill>
          <a:blip r:embed="rId3"/>
          <a:stretch/>
        </p:blipFill>
        <p:spPr>
          <a:xfrm>
            <a:off x="1295280" y="1614600"/>
            <a:ext cx="3200400" cy="2365200"/>
          </a:xfrm>
          <a:prstGeom prst="rect">
            <a:avLst/>
          </a:prstGeom>
          <a:ln w="0">
            <a:noFill/>
          </a:ln>
        </p:spPr>
      </p:pic>
      <p:sp>
        <p:nvSpPr>
          <p:cNvPr id="374"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375"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376"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7"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78"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79"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80"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81"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82"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83"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84"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385"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86"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387"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388"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9"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390"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391"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392"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393"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4"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118"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First, to pay all costs and expenses arising from the construction, operation and maintenance of the Borrower, including taxes (value added and otherwise), and deposit of funds as security to third-party vendors in the ordinary course of busines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Then, to pay expenses of, and fees payable to, the Collateral Agent and the Administrative Ag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i) Then, to pay interest, principal payments and fees of the Credit Facility, and hedge agreeme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 Then, to fund the reserve accounts in accordance with the provisions under “Reserve Accounts,” abov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 Then, to repay debt in accordance with Cash Sweep provisions abov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 Then, subject to the provisions regarding Distributions, above, and subject to no Default or Event of Default and other conditions, to pay dividends as permitted by law or repay subordinated loans.</a:t>
            </a: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Covenants</a:t>
            </a:r>
            <a:endParaRPr b="1" lang="en-US" sz="2000" spc="-1" strike="noStrike">
              <a:solidFill>
                <a:srgbClr val="000000"/>
              </a:solidFill>
              <a:latin typeface="Arial"/>
            </a:endParaRPr>
          </a:p>
        </p:txBody>
      </p:sp>
      <p:sp>
        <p:nvSpPr>
          <p:cNvPr id="3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 to the Conversion Date and subject to the attainment in each annual period of a DSCR of at least 1.20x and no default condition, the Borrower may make distributions to its shareholders from excess cash flow in accordance with the Operating Cash Waterfall on each perio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es trapped for two consecutive years will be used to repay debt on a pro-rata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s may only be made once a year during the two months following the calculation of the DSCR.</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bursement Controls and Basic Covenants</a:t>
            </a:r>
            <a:endParaRPr b="1" lang="en-US" sz="2000" spc="-1" strike="noStrike">
              <a:solidFill>
                <a:srgbClr val="000000"/>
              </a:solidFill>
              <a:latin typeface="Arial"/>
            </a:endParaRPr>
          </a:p>
        </p:txBody>
      </p:sp>
      <p:sp>
        <p:nvSpPr>
          <p:cNvPr id="4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bursement controls in the form of conditions precedent to each drawdown under the construction loan, such as requiring the borrower to present invoices, builders' certificates or other evidence as to the need and purpose for which funds will be us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r covenants not to amend or waive any of its rights under the principal project agreements without the consent of the lender.</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r completion covenants requiring the borrower to complete the project in accordance with project plans and specifications and prohibiting material alterations without the consent of the lender. </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that Restrict Dividends and Additional Debt</a:t>
            </a:r>
            <a:endParaRPr b="1" lang="en-US" sz="2000" spc="-1" strike="noStrike">
              <a:solidFill>
                <a:srgbClr val="000000"/>
              </a:solidFill>
              <a:latin typeface="Arial"/>
            </a:endParaRPr>
          </a:p>
        </p:txBody>
      </p:sp>
      <p:sp>
        <p:nvSpPr>
          <p:cNvPr id="4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er covenants restricting the payment of dividends or other distributions by the borrower during construction and, thereafter, only after satisfaction of required debt service and other reserves, debt service coverage ratios and certification of no existing default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er covenants prohibiting incurring of additional liens and debt or issuing guarante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that project participants affiliated with the project sponsors enter into subordination agreements under which certain payments to such participants from the borrower under project agreements are restricted (either absolutely or partially) and made subordinate to the payment of debt servi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loan typically will be secured by all project assets, including a mortgage on the project facilities and real property; assignment of operating revenues; liens on all personal property; and assignment of all project agreements and project permits, including any letters of credit or performance bonds to which the borrower is the beneficiary.</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Picture 4" descr=""/>
          <p:cNvPicPr/>
          <p:nvPr/>
        </p:nvPicPr>
        <p:blipFill>
          <a:blip r:embed="rId1"/>
          <a:stretch/>
        </p:blipFill>
        <p:spPr>
          <a:xfrm>
            <a:off x="1143000" y="1447920"/>
            <a:ext cx="6334200" cy="2786040"/>
          </a:xfrm>
          <a:prstGeom prst="rect">
            <a:avLst/>
          </a:prstGeom>
          <a:ln w="0">
            <a:noFill/>
          </a:ln>
        </p:spPr>
      </p:pic>
      <p:pic>
        <p:nvPicPr>
          <p:cNvPr id="406"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Selected Rated Wind Projects from S&amp;P</a:t>
            </a:r>
            <a:endParaRPr b="1" lang="en-US" sz="2000" spc="-1" strike="noStrike">
              <a:solidFill>
                <a:srgbClr val="000000"/>
              </a:solidFill>
              <a:latin typeface="Arial"/>
            </a:endParaRPr>
          </a:p>
        </p:txBody>
      </p:sp>
      <p:pic>
        <p:nvPicPr>
          <p:cNvPr id="408" name="Picture 5" descr=""/>
          <p:cNvPicPr/>
          <p:nvPr/>
        </p:nvPicPr>
        <p:blipFill>
          <a:blip r:embed="rId1"/>
          <a:stretch/>
        </p:blipFill>
        <p:spPr>
          <a:xfrm>
            <a:off x="87480" y="2362320"/>
            <a:ext cx="8974080" cy="289548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L Example (2003)</a:t>
            </a:r>
            <a:endParaRPr b="1" lang="en-US" sz="2000" spc="-1" strike="noStrike">
              <a:solidFill>
                <a:srgbClr val="000000"/>
              </a:solidFill>
              <a:latin typeface="Arial"/>
            </a:endParaRPr>
          </a:p>
        </p:txBody>
      </p:sp>
      <p:sp>
        <p:nvSpPr>
          <p:cNvPr id="410" name="PlaceHolder 2"/>
          <p:cNvSpPr>
            <a:spLocks noGrp="1"/>
          </p:cNvSpPr>
          <p:nvPr>
            <p:ph/>
          </p:nvPr>
        </p:nvSpPr>
        <p:spPr>
          <a:xfrm>
            <a:off x="609120" y="1371600"/>
            <a:ext cx="7620120" cy="4572000"/>
          </a:xfrm>
          <a:prstGeom prst="rect">
            <a:avLst/>
          </a:prstGeom>
          <a:noFill/>
          <a:ln w="0">
            <a:noFill/>
          </a:ln>
        </p:spPr>
        <p:txBody>
          <a:bodyPr lIns="92160" rIns="92160" tIns="46080" bIns="46080" anchor="t">
            <a:normAutofit fontScale="95000"/>
          </a:bodyPr>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1.86</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1.74</a:t>
            </a:r>
            <a:endParaRPr b="0" lang="en-US" sz="1400" spc="-1" strike="noStrike">
              <a:solidFill>
                <a:srgbClr val="000000"/>
              </a:solidFill>
              <a:latin typeface="Arial"/>
            </a:endParaRPr>
          </a:p>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dy’s Baa3</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P BBB-</a:t>
            </a:r>
            <a:endParaRPr b="0" lang="en-US" sz="1400" spc="-1" strike="noStrike">
              <a:solidFill>
                <a:srgbClr val="000000"/>
              </a:solidFill>
              <a:latin typeface="Arial"/>
            </a:endParaRPr>
          </a:p>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 Accounts</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Months Debt Service Reserve Account</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llion Operating Reserve</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Maintenance Reserve</a:t>
            </a:r>
            <a:endParaRPr b="0" lang="en-US" sz="1400" spc="-1" strike="noStrike">
              <a:solidFill>
                <a:srgbClr val="000000"/>
              </a:solidFill>
              <a:latin typeface="Arial"/>
            </a:endParaRPr>
          </a:p>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Support</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aranteed by Sponsor</a:t>
            </a:r>
            <a:endParaRPr b="0" lang="en-US" sz="1400" spc="-1" strike="noStrike">
              <a:solidFill>
                <a:srgbClr val="000000"/>
              </a:solidFill>
              <a:latin typeface="Arial"/>
            </a:endParaRPr>
          </a:p>
          <a:p>
            <a:pPr marL="219960" indent="-164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venants</a:t>
            </a:r>
            <a:endParaRPr b="0" lang="en-US" sz="1400" spc="-1" strike="noStrike">
              <a:solidFill>
                <a:srgbClr val="000000"/>
              </a:solidFill>
              <a:latin typeface="Arial"/>
            </a:endParaRPr>
          </a:p>
          <a:p>
            <a:pPr lvl="1" marL="812880" indent="-2743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s allowed only if DSCR is above 1.3 times</a:t>
            </a: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rve Accounts – FPL Example</a:t>
            </a:r>
            <a:endParaRPr b="1" lang="en-US" sz="2000" spc="-1" strike="noStrike">
              <a:solidFill>
                <a:srgbClr val="000000"/>
              </a:solidFill>
              <a:latin typeface="Arial"/>
            </a:endParaRPr>
          </a:p>
        </p:txBody>
      </p:sp>
      <p:sp>
        <p:nvSpPr>
          <p:cNvPr id="4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ervice reserve covers 12 months of debt service </a:t>
            </a:r>
            <a:endParaRPr b="0" lang="en-US" sz="1800" spc="-1" strike="noStrike">
              <a:solidFill>
                <a:srgbClr val="000000"/>
              </a:solidFill>
              <a:latin typeface="Arial"/>
            </a:endParaRPr>
          </a:p>
          <a:p>
            <a:pPr lvl="1" marL="855720" indent="-28908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at closing, either in cash or an Letter of Credit. </a:t>
            </a:r>
            <a:endParaRPr b="0" lang="en-US" sz="20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jor maintenance account is funded at closing in the amount of $1 million initially to $3.5 million by 2020. </a:t>
            </a:r>
            <a:endParaRPr b="0" lang="en-US" sz="1800" spc="-1" strike="noStrike">
              <a:solidFill>
                <a:srgbClr val="000000"/>
              </a:solidFill>
              <a:latin typeface="Arial"/>
            </a:endParaRPr>
          </a:p>
          <a:p>
            <a:pPr marL="231840" indent="-1731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al $15 million O&amp;M reserve is funded at closing, with either:</a:t>
            </a:r>
            <a:endParaRPr b="0" lang="en-US" sz="1800" spc="-1" strike="noStrike">
              <a:solidFill>
                <a:srgbClr val="000000"/>
              </a:solidFill>
              <a:latin typeface="Arial"/>
            </a:endParaRPr>
          </a:p>
          <a:p>
            <a:pPr lvl="1" marL="855720" indent="-28908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a:t>
            </a:r>
            <a:endParaRPr b="0" lang="en-US" sz="2000" spc="-1" strike="noStrike">
              <a:solidFill>
                <a:srgbClr val="000000"/>
              </a:solidFill>
              <a:latin typeface="Arial"/>
            </a:endParaRPr>
          </a:p>
          <a:p>
            <a:pPr lvl="1" marL="855720" indent="-28908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tter of credit , or </a:t>
            </a:r>
            <a:endParaRPr b="0" lang="en-US" sz="2000" spc="-1" strike="noStrike">
              <a:solidFill>
                <a:srgbClr val="000000"/>
              </a:solidFill>
              <a:latin typeface="Arial"/>
            </a:endParaRPr>
          </a:p>
          <a:p>
            <a:pPr lvl="1" marL="855720" indent="-28908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uarantee from a corporate entity with a senior unsecured rating of at least 'BBB'. </a:t>
            </a:r>
            <a:endParaRPr b="0"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 FPL Example</a:t>
            </a:r>
            <a:endParaRPr b="1" lang="en-US" sz="2000" spc="-1" strike="noStrike">
              <a:solidFill>
                <a:srgbClr val="000000"/>
              </a:solidFill>
              <a:latin typeface="Arial"/>
            </a:endParaRPr>
          </a:p>
        </p:txBody>
      </p:sp>
      <p:sp>
        <p:nvSpPr>
          <p:cNvPr id="4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flow of funds is not standard but acceptable. American Wind will repay debt once annually, due in part to the annual variation of wind and thus power production. However, the issuer desires to make bi-annual distributions, and has structured the flow of funds accordingly.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trustee allocates funds monthly in the following priority;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amp;M expenses,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debt service fund (1/12 of the debt service requirement),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ebt service reserve,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ajor maintenance reserve,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pecial O&amp;M reserve,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n optional additional payment into the debt service fun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payment on permitted debt (other than senior secured obligations). </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s of Default</a:t>
            </a:r>
            <a:endParaRPr b="1" lang="en-US" sz="2000" spc="-1" strike="noStrike">
              <a:solidFill>
                <a:srgbClr val="000000"/>
              </a:solidFill>
              <a:latin typeface="Arial"/>
            </a:endParaRPr>
          </a:p>
        </p:txBody>
      </p:sp>
      <p:sp>
        <p:nvSpPr>
          <p:cNvPr id="4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yment default by the Borrower;</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Failure to perform or observe covenants;</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Breach of representations or warranties;</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Insolvency of Borrower and/or, until Conversion Date, the Sponsor;</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Default under any material Project Contract;</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Abandonment of any of the Projects;</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Security interests invali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Termination of any of the PPAs or any other material project document;</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Loss of material permits or license;</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 Occurrence of non-permitted change of control; provided that the Sponsor  shall be entitled to partially sell equity interests in the Borrower if (i) the Sponsor maintains "control" of the Borrower (to be defined as more than [50]%1share ownership in and power to direct management of the Borrower), (ii) the Sponsor remains fully liable for its support obligations, and (iii) the transferee meets all Lenders' KYC requirements; </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Filing petition for bankruptcy, liquidation, or reorganization;</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Failure to maintain minimum ownership levels;</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Failure of any Project to achieve commercial operations on or prior to a longstop date TB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 Cross default with the Borrower’s and, until Conversion Date, the Sponsor’s other indebtedness, subject to a threshold (to be determine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Force majeure extending for more than a number of days TB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Expropriation, nationalization, limitations on transfer or convertibility of currencies, etc.; and</a:t>
            </a:r>
            <a:endParaRPr b="0" lang="en-US" sz="1000" spc="-1" strike="noStrike">
              <a:solidFill>
                <a:srgbClr val="000000"/>
              </a:solidFill>
              <a:latin typeface="Arial"/>
            </a:endParaRPr>
          </a:p>
          <a:p>
            <a:pPr marL="231840" indent="-1731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 Judgments and litigation affecting the Borrower or, until Conversion Date, the Sponsor.</a:t>
            </a:r>
            <a:endParaRPr b="0" lang="en-US" sz="1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Nobel Prizes in the Context of Renewables</a:t>
            </a:r>
            <a:endParaRPr b="1" lang="en-US" sz="2000" spc="-1" strike="noStrike">
              <a:solidFill>
                <a:srgbClr val="000000"/>
              </a:solidFill>
              <a:latin typeface="Arial"/>
            </a:endParaRPr>
          </a:p>
        </p:txBody>
      </p:sp>
      <p:sp>
        <p:nvSpPr>
          <p:cNvPr id="1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and Valuation of Renewable Resource Central to All Issues in the Cour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bel Prizes in Financial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owitz – Risk from Standard Deviation of Retur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and Modigliani – Concentrate on Operations and Not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pe – Capital Asset Pricing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es and Merton – Option Pricing and Normal Distribu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versus Traditional Finance Theory</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side Analysis and Refinancing</a:t>
            </a:r>
            <a:endParaRPr b="1" lang="en-US" sz="2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d Renewable Energy</a:t>
            </a:r>
            <a:endParaRPr b="1" lang="en-US" sz="2000" spc="-1" strike="noStrike">
              <a:solidFill>
                <a:srgbClr val="000000"/>
              </a:solidFill>
              <a:latin typeface="Arial"/>
            </a:endParaRPr>
          </a:p>
        </p:txBody>
      </p:sp>
      <p:sp>
        <p:nvSpPr>
          <p:cNvPr id="4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is important when debt is paid off before the end of the life of project and when there is uncertainty in cash flow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demonstrating the stability of cash flows (say for a period of four years), banks may be willing to accept better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DSC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Margi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er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Repayment Sty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can accelerate the payment of dividends and improve equity IRR</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s on Re-financing</a:t>
            </a:r>
            <a:endParaRPr b="1" lang="en-US" sz="2000" spc="-1" strike="noStrike">
              <a:solidFill>
                <a:srgbClr val="000000"/>
              </a:solidFill>
              <a:latin typeface="Arial"/>
            </a:endParaRPr>
          </a:p>
        </p:txBody>
      </p:sp>
      <p:sp>
        <p:nvSpPr>
          <p:cNvPr id="4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itial years, cannot increase the amount of the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able to improve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by the collatera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er yea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possibly increase the amount of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es dividen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Incorporating Re-Financing in Model</a:t>
            </a:r>
            <a:endParaRPr b="1" lang="en-US" sz="2000" spc="-1" strike="noStrike">
              <a:solidFill>
                <a:srgbClr val="000000"/>
              </a:solidFill>
              <a:latin typeface="Arial"/>
            </a:endParaRPr>
          </a:p>
        </p:txBody>
      </p:sp>
      <p:sp>
        <p:nvSpPr>
          <p:cNvPr id="4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dd re-financing into model</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s for</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of re-financing</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rate on re-financing</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and repayment of re-financing</a:t>
            </a:r>
            <a:endParaRPr b="0" lang="en-US" sz="14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 at Re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y existing debt</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fees for breakage and new debt</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ainder is dividends</a:t>
            </a:r>
            <a:endParaRPr b="0" lang="en-US" sz="14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new Debt to debt schedul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xisting debt for Repaymen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Profit and Loss and Cash Flow</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425" name="Picture 4" descr=""/>
          <p:cNvPicPr/>
          <p:nvPr/>
        </p:nvPicPr>
        <p:blipFill>
          <a:blip r:embed="rId1"/>
          <a:stretch/>
        </p:blipFill>
        <p:spPr>
          <a:xfrm>
            <a:off x="914400" y="1600200"/>
            <a:ext cx="6594480" cy="4494240"/>
          </a:xfrm>
          <a:prstGeom prst="rect">
            <a:avLst/>
          </a:prstGeom>
          <a:ln w="0">
            <a:noFill/>
          </a:ln>
        </p:spPr>
      </p:pic>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4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43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ee Calculation</a:t>
            </a:r>
            <a:endParaRPr b="1" lang="en-US" sz="2000" spc="-1" strike="noStrike">
              <a:solidFill>
                <a:srgbClr val="000000"/>
              </a:solidFill>
              <a:latin typeface="Arial"/>
            </a:endParaRPr>
          </a:p>
        </p:txBody>
      </p:sp>
      <p:sp>
        <p:nvSpPr>
          <p:cNvPr id="4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5] bps flat on the Facility Amount, payable to the Mandated Lead Arrangers, in each case, on the earlier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30 days after Financial Close, and (ii) the first disbursement dat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front fee will be payable according to the following scheme: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if a Covered Tranche is provided as part of the Credit Facility, 50% to EXIM and 50% to the  Commercial Banks, and </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i) if no Covered Tranche is provided as part of the Credit Facility, 100% to the Commercial Bank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is 40% of the drawn spread, on the average daily unused portion of the Credit Facility, payable quarterly in arrears from Financial Close until the Conversion Dat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4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4-09T15:23:13Z</dcterms:modified>
  <cp:revision>1232</cp:revision>
  <dc:subject/>
  <dc:title>Project Finance</dc:title>
</cp:coreProperties>
</file>